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EE789-CB6F-4898-8547-B934934A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2AE92-8C8A-4658-BA6C-6AFD62E3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C88B-6691-4650-986E-E0A371D2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28AB1-B488-42D4-8F39-075AEA2C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ACE6-721E-4AC2-962B-A47BAD0D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E69D-C80C-4CA7-BB71-C7B9D885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925E-7680-45C3-9B26-95AE5C03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2B5E-3855-4A0D-8FA4-BEE32FCA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F56E-AAD9-4208-A043-092F74EA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4694-E56C-4C34-9BC9-D60BEF77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0744-40B1-4979-AAAB-1D61240A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EAEB1-39D3-4906-86FF-65E1FA0C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E06D-2401-42A9-90EE-B557AF1A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C9FA-CEBF-4860-A625-87EDD23E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D4B5-8BE6-4595-910A-59336F53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A3B3-BF45-4D5B-99EA-78457ECB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AF8F-2E20-4918-BF47-58851EB8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7418-A1B5-425C-AF09-E1E6A3DA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B3D8-E8D7-4541-8759-3946F9F1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D76F0-0AD6-497E-ABAC-F37334F7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DFE57-166A-440D-BD3B-A58569E4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9081-3A9B-4429-ACC6-B6CDB01D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853F2-6F28-4DAE-93DD-88517D52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7ACD2-CED0-4449-8758-0A48DC92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A164-1B2F-4125-A3A1-8265DB647A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D838-FC16-4F29-8192-6EA72187B0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Szenari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468360" y="2119680"/>
            <a:ext cx="8208720" cy="1390680"/>
            <a:chOff x="468360" y="2119680"/>
            <a:chExt cx="8208720" cy="1390680"/>
          </a:xfrm>
        </p:grpSpPr>
        <p:cxnSp>
          <p:nvCxnSpPr>
            <p:cNvPr id="515" name="_s2086"/>
            <p:cNvCxnSpPr>
              <a:stCxn id="516" idx="0"/>
              <a:endCxn id="517" idx="2"/>
            </p:cNvCxnSpPr>
            <p:nvPr/>
          </p:nvCxnSpPr>
          <p:spPr>
            <a:xfrm flipV="1" rot="16200000">
              <a:off x="6154920" y="973440"/>
              <a:ext cx="219240" cy="3383280"/>
            </a:xfrm>
            <a:prstGeom prst="bentConnector5">
              <a:avLst>
                <a:gd name="adj1" fmla="val 105921"/>
                <a:gd name="adj2" fmla="val 49856"/>
                <a:gd name="adj3" fmla="val -575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18" name="_s2084"/>
            <p:cNvCxnSpPr>
              <a:stCxn id="519" idx="0"/>
              <a:endCxn id="517" idx="2"/>
            </p:cNvCxnSpPr>
            <p:nvPr/>
          </p:nvCxnSpPr>
          <p:spPr>
            <a:xfrm flipV="1" rot="16200000">
              <a:off x="5309280" y="1819440"/>
              <a:ext cx="219240" cy="1691640"/>
            </a:xfrm>
            <a:prstGeom prst="bentConnector5">
              <a:avLst>
                <a:gd name="adj1" fmla="val 105921"/>
                <a:gd name="adj2" fmla="val -56343"/>
                <a:gd name="adj3" fmla="val -3361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0" name="_s2082"/>
            <p:cNvCxnSpPr>
              <a:stCxn id="521" idx="0"/>
              <a:endCxn id="517" idx="2"/>
            </p:cNvCxnSpPr>
            <p:nvPr/>
          </p:nvCxnSpPr>
          <p:spPr>
            <a:xfrm flipH="1" flipV="1" rot="5400000">
              <a:off x="4463280" y="2665080"/>
              <a:ext cx="219240" cy="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2" name="_s2080"/>
            <p:cNvCxnSpPr>
              <a:stCxn id="523" idx="0"/>
              <a:endCxn id="517" idx="2"/>
            </p:cNvCxnSpPr>
            <p:nvPr/>
          </p:nvCxnSpPr>
          <p:spPr>
            <a:xfrm flipH="1" flipV="1" rot="5400000">
              <a:off x="3617640" y="1819080"/>
              <a:ext cx="219240" cy="1692360"/>
            </a:xfrm>
            <a:prstGeom prst="bentConnector5">
              <a:avLst>
                <a:gd name="adj1" fmla="val 105921"/>
                <a:gd name="adj2" fmla="val -56340"/>
                <a:gd name="adj3" fmla="val -33618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24" name="_s2078"/>
            <p:cNvCxnSpPr>
              <a:stCxn id="525" idx="0"/>
              <a:endCxn id="517" idx="2"/>
            </p:cNvCxnSpPr>
            <p:nvPr/>
          </p:nvCxnSpPr>
          <p:spPr>
            <a:xfrm flipH="1" flipV="1" rot="5400000">
              <a:off x="2771640" y="973440"/>
              <a:ext cx="219240" cy="3384000"/>
            </a:xfrm>
            <a:prstGeom prst="bentConnector5">
              <a:avLst>
                <a:gd name="adj1" fmla="val 105921"/>
                <a:gd name="adj2" fmla="val 49867"/>
                <a:gd name="adj3" fmla="val -575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17" name="_s2055"/>
            <p:cNvSpPr/>
            <p:nvPr/>
          </p:nvSpPr>
          <p:spPr>
            <a:xfrm>
              <a:off x="3843000" y="2119680"/>
              <a:ext cx="14605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_s2077"/>
            <p:cNvSpPr/>
            <p:nvPr/>
          </p:nvSpPr>
          <p:spPr>
            <a:xfrm>
              <a:off x="468360" y="2774520"/>
              <a:ext cx="144252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_s2079"/>
            <p:cNvSpPr/>
            <p:nvPr/>
          </p:nvSpPr>
          <p:spPr>
            <a:xfrm>
              <a:off x="2160000" y="2774520"/>
              <a:ext cx="144252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_s2081"/>
            <p:cNvSpPr/>
            <p:nvPr/>
          </p:nvSpPr>
          <p:spPr>
            <a:xfrm>
              <a:off x="3851640" y="2774520"/>
              <a:ext cx="144216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_s2083"/>
            <p:cNvSpPr/>
            <p:nvPr/>
          </p:nvSpPr>
          <p:spPr>
            <a:xfrm>
              <a:off x="5543280" y="2774520"/>
              <a:ext cx="144216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_s2085"/>
            <p:cNvSpPr/>
            <p:nvPr/>
          </p:nvSpPr>
          <p:spPr>
            <a:xfrm>
              <a:off x="7234920" y="2774520"/>
              <a:ext cx="1442160" cy="5043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361320" y="2119680"/>
            <a:ext cx="2421360" cy="3220920"/>
            <a:chOff x="3361320" y="2119680"/>
            <a:chExt cx="2421360" cy="3220920"/>
          </a:xfrm>
        </p:grpSpPr>
        <p:cxnSp>
          <p:nvCxnSpPr>
            <p:cNvPr id="676" name="_s69637"/>
            <p:cNvCxnSpPr>
              <a:stCxn id="677" idx="1"/>
              <a:endCxn id="678" idx="2"/>
            </p:cNvCxnSpPr>
            <p:nvPr/>
          </p:nvCxnSpPr>
          <p:spPr>
            <a:xfrm rot="10800000">
              <a:off x="4090320" y="25549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9" name="_s69638"/>
            <p:cNvCxnSpPr>
              <a:stCxn id="680" idx="1"/>
              <a:endCxn id="678" idx="2"/>
            </p:cNvCxnSpPr>
            <p:nvPr/>
          </p:nvCxnSpPr>
          <p:spPr>
            <a:xfrm rot="10800000">
              <a:off x="4090320" y="25549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81" name="_s69639"/>
            <p:cNvCxnSpPr>
              <a:stCxn id="682" idx="1"/>
              <a:endCxn id="678" idx="2"/>
            </p:cNvCxnSpPr>
            <p:nvPr/>
          </p:nvCxnSpPr>
          <p:spPr>
            <a:xfrm rot="10800000">
              <a:off x="4090320" y="2554920"/>
              <a:ext cx="2491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83" name="_s69640"/>
            <p:cNvCxnSpPr>
              <a:stCxn id="684" idx="1"/>
              <a:endCxn id="678" idx="2"/>
            </p:cNvCxnSpPr>
            <p:nvPr/>
          </p:nvCxnSpPr>
          <p:spPr>
            <a:xfrm rot="10800000">
              <a:off x="4090320" y="25549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8" name="_s69641"/>
            <p:cNvSpPr/>
            <p:nvPr/>
          </p:nvSpPr>
          <p:spPr>
            <a:xfrm>
              <a:off x="33613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_s69642"/>
            <p:cNvSpPr/>
            <p:nvPr/>
          </p:nvSpPr>
          <p:spPr>
            <a:xfrm>
              <a:off x="43398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Hintergrund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_s69643"/>
            <p:cNvSpPr/>
            <p:nvPr/>
          </p:nvSpPr>
          <p:spPr>
            <a:xfrm>
              <a:off x="433980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frastruktu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_s69644"/>
            <p:cNvSpPr/>
            <p:nvPr/>
          </p:nvSpPr>
          <p:spPr>
            <a:xfrm>
              <a:off x="433980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kehrsnet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_s69645"/>
            <p:cNvSpPr/>
            <p:nvPr/>
          </p:nvSpPr>
          <p:spPr>
            <a:xfrm>
              <a:off x="433980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3361320" y="2119680"/>
            <a:ext cx="2421360" cy="3506400"/>
            <a:chOff x="3361320" y="2119680"/>
            <a:chExt cx="2421360" cy="3506400"/>
          </a:xfrm>
        </p:grpSpPr>
        <p:cxnSp>
          <p:nvCxnSpPr>
            <p:cNvPr id="687" name="_s62469"/>
            <p:cNvCxnSpPr>
              <a:stCxn id="688" idx="1"/>
              <a:endCxn id="689" idx="2"/>
            </p:cNvCxnSpPr>
            <p:nvPr/>
          </p:nvCxnSpPr>
          <p:spPr>
            <a:xfrm rot="10800000">
              <a:off x="4090320" y="2554920"/>
              <a:ext cx="2491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0" name="_s62470"/>
            <p:cNvCxnSpPr>
              <a:stCxn id="691" idx="1"/>
              <a:endCxn id="689" idx="2"/>
            </p:cNvCxnSpPr>
            <p:nvPr/>
          </p:nvCxnSpPr>
          <p:spPr>
            <a:xfrm rot="10800000">
              <a:off x="4090320" y="2554920"/>
              <a:ext cx="2491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2" name="_s62471"/>
            <p:cNvCxnSpPr>
              <a:stCxn id="693" idx="1"/>
              <a:endCxn id="689" idx="2"/>
            </p:cNvCxnSpPr>
            <p:nvPr/>
          </p:nvCxnSpPr>
          <p:spPr>
            <a:xfrm rot="10800000">
              <a:off x="4090320" y="2554920"/>
              <a:ext cx="2491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4" name="_s62472"/>
            <p:cNvCxnSpPr>
              <a:stCxn id="695" idx="1"/>
              <a:endCxn id="689" idx="2"/>
            </p:cNvCxnSpPr>
            <p:nvPr/>
          </p:nvCxnSpPr>
          <p:spPr>
            <a:xfrm rot="10800000">
              <a:off x="4090320" y="2554920"/>
              <a:ext cx="2491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9" name="_s62473"/>
            <p:cNvSpPr/>
            <p:nvPr/>
          </p:nvSpPr>
          <p:spPr>
            <a:xfrm>
              <a:off x="33613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_s62474"/>
            <p:cNvSpPr/>
            <p:nvPr/>
          </p:nvSpPr>
          <p:spPr>
            <a:xfrm>
              <a:off x="4339800" y="277452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3 - 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_s62475"/>
            <p:cNvSpPr/>
            <p:nvPr/>
          </p:nvSpPr>
          <p:spPr>
            <a:xfrm>
              <a:off x="4339800" y="355608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-Referenz,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age der Objek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_s62476"/>
            <p:cNvSpPr/>
            <p:nvPr/>
          </p:nvSpPr>
          <p:spPr>
            <a:xfrm>
              <a:off x="4339800" y="433692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as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_s62477"/>
            <p:cNvSpPr/>
            <p:nvPr/>
          </p:nvSpPr>
          <p:spPr>
            <a:xfrm>
              <a:off x="4339800" y="5118480"/>
              <a:ext cx="1442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Rout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468360" y="2119680"/>
            <a:ext cx="8208720" cy="3713040"/>
            <a:chOff x="468360" y="2119680"/>
            <a:chExt cx="8208720" cy="3713040"/>
          </a:xfrm>
        </p:grpSpPr>
        <p:cxnSp>
          <p:nvCxnSpPr>
            <p:cNvPr id="698" name="_s70661"/>
            <p:cNvCxnSpPr>
              <a:stCxn id="699" idx="0"/>
              <a:endCxn id="700" idx="2"/>
            </p:cNvCxnSpPr>
            <p:nvPr/>
          </p:nvCxnSpPr>
          <p:spPr>
            <a:xfrm flipV="1">
              <a:off x="2881800" y="5178960"/>
              <a:ext cx="2160" cy="221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1" name="_s70662"/>
            <p:cNvCxnSpPr>
              <a:stCxn id="700" idx="0"/>
              <a:endCxn id="702" idx="2"/>
            </p:cNvCxnSpPr>
            <p:nvPr/>
          </p:nvCxnSpPr>
          <p:spPr>
            <a:xfrm flipV="1">
              <a:off x="2881800" y="45237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3" name="_s70663"/>
            <p:cNvCxnSpPr>
              <a:stCxn id="702" idx="0"/>
              <a:endCxn id="704" idx="2"/>
            </p:cNvCxnSpPr>
            <p:nvPr/>
          </p:nvCxnSpPr>
          <p:spPr>
            <a:xfrm flipV="1">
              <a:off x="2881800" y="38685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5" name="_s70664"/>
            <p:cNvCxnSpPr>
              <a:stCxn id="704" idx="0"/>
              <a:endCxn id="706" idx="2"/>
            </p:cNvCxnSpPr>
            <p:nvPr/>
          </p:nvCxnSpPr>
          <p:spPr>
            <a:xfrm flipV="1">
              <a:off x="2881800" y="32151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7" name="_s70665"/>
            <p:cNvCxnSpPr>
              <a:stCxn id="708" idx="0"/>
              <a:endCxn id="709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0" name="_s70666"/>
            <p:cNvCxnSpPr>
              <a:stCxn id="711" idx="0"/>
              <a:endCxn id="709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2" name="_s70667"/>
            <p:cNvCxnSpPr>
              <a:stCxn id="713" idx="0"/>
              <a:endCxn id="709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4" name="_s70668"/>
            <p:cNvCxnSpPr>
              <a:stCxn id="706" idx="0"/>
              <a:endCxn id="709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5" name="_s70669"/>
            <p:cNvCxnSpPr>
              <a:stCxn id="716" idx="0"/>
              <a:endCxn id="709" idx="2"/>
            </p:cNvCxnSpPr>
            <p:nvPr/>
          </p:nvCxnSpPr>
          <p:spPr>
            <a:xfrm flipH="1" flipV="1" rot="5400000">
              <a:off x="2771640" y="973080"/>
              <a:ext cx="219600" cy="3383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09" name="_s70670"/>
            <p:cNvSpPr/>
            <p:nvPr/>
          </p:nvSpPr>
          <p:spPr>
            <a:xfrm>
              <a:off x="3843000" y="2119680"/>
              <a:ext cx="14590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560" rIns="2556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_s70671"/>
            <p:cNvSpPr/>
            <p:nvPr/>
          </p:nvSpPr>
          <p:spPr>
            <a:xfrm>
              <a:off x="4683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_s70672"/>
            <p:cNvSpPr/>
            <p:nvPr/>
          </p:nvSpPr>
          <p:spPr>
            <a:xfrm>
              <a:off x="2160000" y="2774520"/>
              <a:ext cx="1442160" cy="4406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_s70673"/>
            <p:cNvSpPr/>
            <p:nvPr/>
          </p:nvSpPr>
          <p:spPr>
            <a:xfrm>
              <a:off x="385164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_s70674"/>
            <p:cNvSpPr/>
            <p:nvPr/>
          </p:nvSpPr>
          <p:spPr>
            <a:xfrm>
              <a:off x="554328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_s70675"/>
            <p:cNvSpPr/>
            <p:nvPr/>
          </p:nvSpPr>
          <p:spPr>
            <a:xfrm>
              <a:off x="72345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_s70676"/>
            <p:cNvSpPr/>
            <p:nvPr/>
          </p:nvSpPr>
          <p:spPr>
            <a:xfrm>
              <a:off x="2204640" y="3434400"/>
              <a:ext cx="13532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elbe Sei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_s70677"/>
            <p:cNvSpPr/>
            <p:nvPr/>
          </p:nvSpPr>
          <p:spPr>
            <a:xfrm>
              <a:off x="2131920" y="4087800"/>
              <a:ext cx="1496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nd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_s70678"/>
            <p:cNvSpPr/>
            <p:nvPr/>
          </p:nvSpPr>
          <p:spPr>
            <a:xfrm>
              <a:off x="2131920" y="4743000"/>
              <a:ext cx="1496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400" rIns="774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_s70679"/>
            <p:cNvSpPr/>
            <p:nvPr/>
          </p:nvSpPr>
          <p:spPr>
            <a:xfrm>
              <a:off x="2131920" y="5398200"/>
              <a:ext cx="14968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3350160" y="2119680"/>
            <a:ext cx="2443680" cy="3462120"/>
            <a:chOff x="3350160" y="2119680"/>
            <a:chExt cx="2443680" cy="3462120"/>
          </a:xfrm>
        </p:grpSpPr>
        <p:cxnSp>
          <p:nvCxnSpPr>
            <p:cNvPr id="719" name="_s71685"/>
            <p:cNvCxnSpPr>
              <a:stCxn id="720" idx="1"/>
              <a:endCxn id="721" idx="2"/>
            </p:cNvCxnSpPr>
            <p:nvPr/>
          </p:nvCxnSpPr>
          <p:spPr>
            <a:xfrm rot="10800000">
              <a:off x="4102920" y="2711520"/>
              <a:ext cx="249120" cy="2640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2" name="_s71686"/>
            <p:cNvCxnSpPr>
              <a:stCxn id="723" idx="1"/>
              <a:endCxn id="721" idx="2"/>
            </p:cNvCxnSpPr>
            <p:nvPr/>
          </p:nvCxnSpPr>
          <p:spPr>
            <a:xfrm rot="10800000">
              <a:off x="4102920" y="2711520"/>
              <a:ext cx="249120" cy="1911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4" name="_s71687"/>
            <p:cNvCxnSpPr>
              <a:stCxn id="725" idx="1"/>
              <a:endCxn id="721" idx="2"/>
            </p:cNvCxnSpPr>
            <p:nvPr/>
          </p:nvCxnSpPr>
          <p:spPr>
            <a:xfrm rot="10800000">
              <a:off x="4102920" y="2711520"/>
              <a:ext cx="249120" cy="1178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26" name="_s71688"/>
            <p:cNvCxnSpPr>
              <a:stCxn id="727" idx="1"/>
              <a:endCxn id="721" idx="2"/>
            </p:cNvCxnSpPr>
            <p:nvPr/>
          </p:nvCxnSpPr>
          <p:spPr>
            <a:xfrm rot="10800000">
              <a:off x="4102920" y="2711520"/>
              <a:ext cx="24912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21" name="_s71689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_s71690"/>
            <p:cNvSpPr/>
            <p:nvPr/>
          </p:nvSpPr>
          <p:spPr>
            <a:xfrm>
              <a:off x="4352400" y="2931120"/>
              <a:ext cx="1441440" cy="4575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unden fü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ren u. Diens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_s71691"/>
            <p:cNvSpPr/>
            <p:nvPr/>
          </p:nvSpPr>
          <p:spPr>
            <a:xfrm>
              <a:off x="4352400" y="3662280"/>
              <a:ext cx="1441440" cy="4575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_s71692"/>
            <p:cNvSpPr/>
            <p:nvPr/>
          </p:nvSpPr>
          <p:spPr>
            <a:xfrm>
              <a:off x="4352400" y="4393080"/>
              <a:ext cx="1441440" cy="4575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alt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_s71693"/>
            <p:cNvSpPr/>
            <p:nvPr/>
          </p:nvSpPr>
          <p:spPr>
            <a:xfrm>
              <a:off x="4352400" y="512460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Datenerzeug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350160" y="2119680"/>
            <a:ext cx="2445120" cy="3377160"/>
            <a:chOff x="3350160" y="2119680"/>
            <a:chExt cx="2445120" cy="3377160"/>
          </a:xfrm>
        </p:grpSpPr>
        <p:cxnSp>
          <p:nvCxnSpPr>
            <p:cNvPr id="730" name="_s72709"/>
            <p:cNvCxnSpPr>
              <a:stCxn id="731" idx="1"/>
              <a:endCxn id="732" idx="2"/>
            </p:cNvCxnSpPr>
            <p:nvPr/>
          </p:nvCxnSpPr>
          <p:spPr>
            <a:xfrm rot="10800000">
              <a:off x="410292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3" name="_s72710"/>
            <p:cNvCxnSpPr>
              <a:stCxn id="734" idx="1"/>
              <a:endCxn id="732" idx="2"/>
            </p:cNvCxnSpPr>
            <p:nvPr/>
          </p:nvCxnSpPr>
          <p:spPr>
            <a:xfrm rot="10800000">
              <a:off x="410292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5" name="_s72711"/>
            <p:cNvCxnSpPr>
              <a:stCxn id="736" idx="1"/>
              <a:endCxn id="732" idx="2"/>
            </p:cNvCxnSpPr>
            <p:nvPr/>
          </p:nvCxnSpPr>
          <p:spPr>
            <a:xfrm rot="10800000">
              <a:off x="410292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7" name="_s72712"/>
            <p:cNvCxnSpPr>
              <a:stCxn id="738" idx="1"/>
              <a:endCxn id="732" idx="2"/>
            </p:cNvCxnSpPr>
            <p:nvPr/>
          </p:nvCxnSpPr>
          <p:spPr>
            <a:xfrm rot="10800000">
              <a:off x="410292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32" name="_s72713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_s72714"/>
            <p:cNvSpPr/>
            <p:nvPr/>
          </p:nvSpPr>
          <p:spPr>
            <a:xfrm>
              <a:off x="4352400" y="29311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ommun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_s72715"/>
            <p:cNvSpPr/>
            <p:nvPr/>
          </p:nvSpPr>
          <p:spPr>
            <a:xfrm>
              <a:off x="4352400" y="3641040"/>
              <a:ext cx="1442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tatist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_s72716"/>
            <p:cNvSpPr/>
            <p:nvPr/>
          </p:nvSpPr>
          <p:spPr>
            <a:xfrm>
              <a:off x="4352400" y="435096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HK / Verbän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_s72717"/>
            <p:cNvSpPr/>
            <p:nvPr/>
          </p:nvSpPr>
          <p:spPr>
            <a:xfrm>
              <a:off x="4352400" y="5060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däs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3350160" y="2119680"/>
            <a:ext cx="2443680" cy="3663000"/>
            <a:chOff x="3350160" y="2119680"/>
            <a:chExt cx="2443680" cy="3663000"/>
          </a:xfrm>
        </p:grpSpPr>
        <p:cxnSp>
          <p:nvCxnSpPr>
            <p:cNvPr id="741" name="_s73733"/>
            <p:cNvCxnSpPr>
              <a:stCxn id="742" idx="1"/>
              <a:endCxn id="743" idx="2"/>
            </p:cNvCxnSpPr>
            <p:nvPr/>
          </p:nvCxnSpPr>
          <p:spPr>
            <a:xfrm rot="10800000">
              <a:off x="4102920" y="2711520"/>
              <a:ext cx="2491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4" name="_s73734"/>
            <p:cNvCxnSpPr>
              <a:stCxn id="745" idx="1"/>
              <a:endCxn id="743" idx="2"/>
            </p:cNvCxnSpPr>
            <p:nvPr/>
          </p:nvCxnSpPr>
          <p:spPr>
            <a:xfrm rot="10800000">
              <a:off x="4102920" y="2711520"/>
              <a:ext cx="2491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6" name="_s73735"/>
            <p:cNvCxnSpPr>
              <a:stCxn id="747" idx="1"/>
              <a:endCxn id="743" idx="2"/>
            </p:cNvCxnSpPr>
            <p:nvPr/>
          </p:nvCxnSpPr>
          <p:spPr>
            <a:xfrm rot="10800000">
              <a:off x="4102920" y="2711520"/>
              <a:ext cx="2491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48" name="_s73736"/>
            <p:cNvCxnSpPr>
              <a:stCxn id="749" idx="1"/>
              <a:endCxn id="743" idx="2"/>
            </p:cNvCxnSpPr>
            <p:nvPr/>
          </p:nvCxnSpPr>
          <p:spPr>
            <a:xfrm rot="10800000">
              <a:off x="4102920" y="2711520"/>
              <a:ext cx="2491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43" name="_s73737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_s73738"/>
            <p:cNvSpPr/>
            <p:nvPr/>
          </p:nvSpPr>
          <p:spPr>
            <a:xfrm>
              <a:off x="4352400" y="29311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intergrund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_s73739"/>
            <p:cNvSpPr/>
            <p:nvPr/>
          </p:nvSpPr>
          <p:spPr>
            <a:xfrm>
              <a:off x="4352400" y="37123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undenstruktu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_s73740"/>
            <p:cNvSpPr/>
            <p:nvPr/>
          </p:nvSpPr>
          <p:spPr>
            <a:xfrm>
              <a:off x="4352400" y="4493880"/>
              <a:ext cx="1441440" cy="5072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ren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ienstleistung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_s73741"/>
            <p:cNvSpPr/>
            <p:nvPr/>
          </p:nvSpPr>
          <p:spPr>
            <a:xfrm>
              <a:off x="4352400" y="52750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onkurren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3350160" y="2119680"/>
            <a:ext cx="2445120" cy="3377160"/>
            <a:chOff x="3350160" y="2119680"/>
            <a:chExt cx="2445120" cy="3377160"/>
          </a:xfrm>
        </p:grpSpPr>
        <p:cxnSp>
          <p:nvCxnSpPr>
            <p:cNvPr id="752" name="_s74757"/>
            <p:cNvCxnSpPr>
              <a:stCxn id="753" idx="1"/>
              <a:endCxn id="754" idx="2"/>
            </p:cNvCxnSpPr>
            <p:nvPr/>
          </p:nvCxnSpPr>
          <p:spPr>
            <a:xfrm rot="10800000">
              <a:off x="410292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55" name="_s74758"/>
            <p:cNvCxnSpPr>
              <a:stCxn id="756" idx="1"/>
              <a:endCxn id="754" idx="2"/>
            </p:cNvCxnSpPr>
            <p:nvPr/>
          </p:nvCxnSpPr>
          <p:spPr>
            <a:xfrm rot="10800000">
              <a:off x="410292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57" name="_s74759"/>
            <p:cNvCxnSpPr>
              <a:stCxn id="758" idx="1"/>
              <a:endCxn id="754" idx="2"/>
            </p:cNvCxnSpPr>
            <p:nvPr/>
          </p:nvCxnSpPr>
          <p:spPr>
            <a:xfrm rot="10800000">
              <a:off x="410292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59" name="_s74760"/>
            <p:cNvCxnSpPr>
              <a:stCxn id="760" idx="1"/>
              <a:endCxn id="754" idx="2"/>
            </p:cNvCxnSpPr>
            <p:nvPr/>
          </p:nvCxnSpPr>
          <p:spPr>
            <a:xfrm rot="10800000">
              <a:off x="410292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54" name="_s74761"/>
            <p:cNvSpPr/>
            <p:nvPr/>
          </p:nvSpPr>
          <p:spPr>
            <a:xfrm>
              <a:off x="3350160" y="2119680"/>
              <a:ext cx="15051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kt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öglichkeit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_s74762"/>
            <p:cNvSpPr/>
            <p:nvPr/>
          </p:nvSpPr>
          <p:spPr>
            <a:xfrm>
              <a:off x="4352400" y="29311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3 - 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_s74763"/>
            <p:cNvSpPr/>
            <p:nvPr/>
          </p:nvSpPr>
          <p:spPr>
            <a:xfrm>
              <a:off x="4352400" y="3641040"/>
              <a:ext cx="1442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-Referen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_s74764"/>
            <p:cNvSpPr/>
            <p:nvPr/>
          </p:nvSpPr>
          <p:spPr>
            <a:xfrm>
              <a:off x="4352400" y="435096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as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_s74765"/>
            <p:cNvSpPr/>
            <p:nvPr/>
          </p:nvSpPr>
          <p:spPr>
            <a:xfrm>
              <a:off x="4352400" y="5060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alys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468360" y="2119680"/>
            <a:ext cx="8208720" cy="3706920"/>
            <a:chOff x="468360" y="2119680"/>
            <a:chExt cx="8208720" cy="3706920"/>
          </a:xfrm>
        </p:grpSpPr>
        <p:cxnSp>
          <p:nvCxnSpPr>
            <p:cNvPr id="763" name="_s75781"/>
            <p:cNvCxnSpPr>
              <a:stCxn id="764" idx="0"/>
              <a:endCxn id="765" idx="2"/>
            </p:cNvCxnSpPr>
            <p:nvPr/>
          </p:nvCxnSpPr>
          <p:spPr>
            <a:xfrm flipV="1">
              <a:off x="4571640" y="51742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66" name="_s75782"/>
            <p:cNvCxnSpPr>
              <a:stCxn id="765" idx="0"/>
              <a:endCxn id="767" idx="2"/>
            </p:cNvCxnSpPr>
            <p:nvPr/>
          </p:nvCxnSpPr>
          <p:spPr>
            <a:xfrm flipV="1">
              <a:off x="4571640" y="45190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68" name="_s75783"/>
            <p:cNvCxnSpPr>
              <a:stCxn id="767" idx="0"/>
              <a:endCxn id="769" idx="2"/>
            </p:cNvCxnSpPr>
            <p:nvPr/>
          </p:nvCxnSpPr>
          <p:spPr>
            <a:xfrm flipV="1">
              <a:off x="4571640" y="386424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0" name="_s75784"/>
            <p:cNvCxnSpPr>
              <a:stCxn id="769" idx="0"/>
              <a:endCxn id="771" idx="2"/>
            </p:cNvCxnSpPr>
            <p:nvPr/>
          </p:nvCxnSpPr>
          <p:spPr>
            <a:xfrm flipH="1" flipV="1" rot="5400000">
              <a:off x="4462560" y="3319200"/>
              <a:ext cx="219600" cy="1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2" name="_s75785"/>
            <p:cNvCxnSpPr>
              <a:stCxn id="773" idx="0"/>
              <a:endCxn id="774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5" name="_s75786"/>
            <p:cNvCxnSpPr>
              <a:stCxn id="776" idx="0"/>
              <a:endCxn id="774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7" name="_s75787"/>
            <p:cNvCxnSpPr>
              <a:stCxn id="771" idx="0"/>
              <a:endCxn id="774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78" name="_s75788"/>
            <p:cNvCxnSpPr>
              <a:stCxn id="779" idx="0"/>
              <a:endCxn id="774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0" name="_s75789"/>
            <p:cNvCxnSpPr>
              <a:stCxn id="781" idx="0"/>
              <a:endCxn id="774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74" name="_s7579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_s75791"/>
            <p:cNvSpPr/>
            <p:nvPr/>
          </p:nvSpPr>
          <p:spPr>
            <a:xfrm>
              <a:off x="46836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_s75792"/>
            <p:cNvSpPr/>
            <p:nvPr/>
          </p:nvSpPr>
          <p:spPr>
            <a:xfrm>
              <a:off x="21600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_s75793"/>
            <p:cNvSpPr/>
            <p:nvPr/>
          </p:nvSpPr>
          <p:spPr>
            <a:xfrm>
              <a:off x="3852000" y="2774520"/>
              <a:ext cx="14410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_s75794"/>
            <p:cNvSpPr/>
            <p:nvPr/>
          </p:nvSpPr>
          <p:spPr>
            <a:xfrm>
              <a:off x="5543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_s75795"/>
            <p:cNvSpPr/>
            <p:nvPr/>
          </p:nvSpPr>
          <p:spPr>
            <a:xfrm>
              <a:off x="7235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_s75796"/>
            <p:cNvSpPr/>
            <p:nvPr/>
          </p:nvSpPr>
          <p:spPr>
            <a:xfrm>
              <a:off x="3896640" y="3429720"/>
              <a:ext cx="13510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Richtwert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_s75797"/>
            <p:cNvSpPr/>
            <p:nvPr/>
          </p:nvSpPr>
          <p:spPr>
            <a:xfrm>
              <a:off x="3823920" y="40834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Generelles OP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_s75798"/>
            <p:cNvSpPr/>
            <p:nvPr/>
          </p:nvSpPr>
          <p:spPr>
            <a:xfrm>
              <a:off x="3823920" y="473832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Baulück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_s75799"/>
            <p:cNvSpPr/>
            <p:nvPr/>
          </p:nvSpPr>
          <p:spPr>
            <a:xfrm>
              <a:off x="3823920" y="5393520"/>
              <a:ext cx="1495800" cy="4330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3351600" y="2119680"/>
            <a:ext cx="2440800" cy="3220920"/>
            <a:chOff x="3351600" y="2119680"/>
            <a:chExt cx="2440800" cy="3220920"/>
          </a:xfrm>
        </p:grpSpPr>
        <p:cxnSp>
          <p:nvCxnSpPr>
            <p:cNvPr id="784" name="_s76805"/>
            <p:cNvCxnSpPr>
              <a:stCxn id="785" idx="1"/>
              <a:endCxn id="786" idx="2"/>
            </p:cNvCxnSpPr>
            <p:nvPr/>
          </p:nvCxnSpPr>
          <p:spPr>
            <a:xfrm rot="10800000">
              <a:off x="4098960" y="2554920"/>
              <a:ext cx="25056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7" name="_s76806"/>
            <p:cNvCxnSpPr>
              <a:stCxn id="788" idx="1"/>
              <a:endCxn id="786" idx="2"/>
            </p:cNvCxnSpPr>
            <p:nvPr/>
          </p:nvCxnSpPr>
          <p:spPr>
            <a:xfrm rot="10800000">
              <a:off x="4098960" y="2554920"/>
              <a:ext cx="25056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89" name="_s76807"/>
            <p:cNvCxnSpPr>
              <a:stCxn id="790" idx="1"/>
              <a:endCxn id="786" idx="2"/>
            </p:cNvCxnSpPr>
            <p:nvPr/>
          </p:nvCxnSpPr>
          <p:spPr>
            <a:xfrm rot="10800000">
              <a:off x="4098960" y="2554920"/>
              <a:ext cx="25056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91" name="_s76808"/>
            <p:cNvCxnSpPr>
              <a:stCxn id="792" idx="1"/>
              <a:endCxn id="786" idx="2"/>
            </p:cNvCxnSpPr>
            <p:nvPr/>
          </p:nvCxnSpPr>
          <p:spPr>
            <a:xfrm rot="10800000">
              <a:off x="4098960" y="2554920"/>
              <a:ext cx="25056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86" name="_s76809"/>
            <p:cNvSpPr/>
            <p:nvPr/>
          </p:nvSpPr>
          <p:spPr>
            <a:xfrm>
              <a:off x="335160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_s76810"/>
            <p:cNvSpPr/>
            <p:nvPr/>
          </p:nvSpPr>
          <p:spPr>
            <a:xfrm>
              <a:off x="434952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ta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_s76811"/>
            <p:cNvSpPr/>
            <p:nvPr/>
          </p:nvSpPr>
          <p:spPr>
            <a:xfrm>
              <a:off x="434952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auträg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_s76812"/>
            <p:cNvSpPr/>
            <p:nvPr/>
          </p:nvSpPr>
          <p:spPr>
            <a:xfrm>
              <a:off x="434952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kler/Bank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_s76813"/>
            <p:cNvSpPr/>
            <p:nvPr/>
          </p:nvSpPr>
          <p:spPr>
            <a:xfrm>
              <a:off x="434952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., 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Datenerzeug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3351600" y="2119680"/>
            <a:ext cx="2440800" cy="3220920"/>
            <a:chOff x="3351600" y="2119680"/>
            <a:chExt cx="2440800" cy="3220920"/>
          </a:xfrm>
        </p:grpSpPr>
        <p:cxnSp>
          <p:nvCxnSpPr>
            <p:cNvPr id="795" name="_s77829"/>
            <p:cNvCxnSpPr>
              <a:stCxn id="796" idx="1"/>
              <a:endCxn id="797" idx="2"/>
            </p:cNvCxnSpPr>
            <p:nvPr/>
          </p:nvCxnSpPr>
          <p:spPr>
            <a:xfrm rot="10800000">
              <a:off x="4098960" y="2554920"/>
              <a:ext cx="25056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98" name="_s77830"/>
            <p:cNvCxnSpPr>
              <a:stCxn id="799" idx="1"/>
              <a:endCxn id="797" idx="2"/>
            </p:cNvCxnSpPr>
            <p:nvPr/>
          </p:nvCxnSpPr>
          <p:spPr>
            <a:xfrm rot="10800000">
              <a:off x="4098960" y="2554920"/>
              <a:ext cx="25056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0" name="_s77831"/>
            <p:cNvCxnSpPr>
              <a:stCxn id="801" idx="1"/>
              <a:endCxn id="797" idx="2"/>
            </p:cNvCxnSpPr>
            <p:nvPr/>
          </p:nvCxnSpPr>
          <p:spPr>
            <a:xfrm rot="10800000">
              <a:off x="4098960" y="2554920"/>
              <a:ext cx="25056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2" name="_s77832"/>
            <p:cNvCxnSpPr>
              <a:stCxn id="803" idx="1"/>
              <a:endCxn id="797" idx="2"/>
            </p:cNvCxnSpPr>
            <p:nvPr/>
          </p:nvCxnSpPr>
          <p:spPr>
            <a:xfrm rot="10800000">
              <a:off x="4098960" y="2554920"/>
              <a:ext cx="25056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97" name="_s77833"/>
            <p:cNvSpPr/>
            <p:nvPr/>
          </p:nvSpPr>
          <p:spPr>
            <a:xfrm>
              <a:off x="335160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_s77834"/>
            <p:cNvSpPr/>
            <p:nvPr/>
          </p:nvSpPr>
          <p:spPr>
            <a:xfrm>
              <a:off x="434952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_s77835"/>
            <p:cNvSpPr/>
            <p:nvPr/>
          </p:nvSpPr>
          <p:spPr>
            <a:xfrm>
              <a:off x="434952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däs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_s77836"/>
            <p:cNvSpPr/>
            <p:nvPr/>
          </p:nvSpPr>
          <p:spPr>
            <a:xfrm>
              <a:off x="434952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_s77837"/>
            <p:cNvSpPr/>
            <p:nvPr/>
          </p:nvSpPr>
          <p:spPr>
            <a:xfrm>
              <a:off x="434952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468360" y="2119680"/>
            <a:ext cx="8209080" cy="3711600"/>
            <a:chOff x="468360" y="2119680"/>
            <a:chExt cx="8209080" cy="3711600"/>
          </a:xfrm>
        </p:grpSpPr>
        <p:cxnSp>
          <p:nvCxnSpPr>
            <p:cNvPr id="528" name="_s55329"/>
            <p:cNvCxnSpPr>
              <a:stCxn id="529" idx="0"/>
              <a:endCxn id="530" idx="2"/>
            </p:cNvCxnSpPr>
            <p:nvPr/>
          </p:nvCxnSpPr>
          <p:spPr>
            <a:xfrm flipV="1">
              <a:off x="1215000" y="5175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1" name="_s55301"/>
            <p:cNvCxnSpPr>
              <a:stCxn id="530" idx="0"/>
              <a:endCxn id="532" idx="2"/>
            </p:cNvCxnSpPr>
            <p:nvPr/>
          </p:nvCxnSpPr>
          <p:spPr>
            <a:xfrm flipV="1">
              <a:off x="1215000" y="4520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3" name="_s55302"/>
            <p:cNvCxnSpPr>
              <a:stCxn id="532" idx="0"/>
              <a:endCxn id="534" idx="2"/>
            </p:cNvCxnSpPr>
            <p:nvPr/>
          </p:nvCxnSpPr>
          <p:spPr>
            <a:xfrm flipV="1">
              <a:off x="1215000" y="3865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5" name="_s55307"/>
            <p:cNvCxnSpPr>
              <a:stCxn id="534" idx="0"/>
              <a:endCxn id="536" idx="2"/>
            </p:cNvCxnSpPr>
            <p:nvPr/>
          </p:nvCxnSpPr>
          <p:spPr>
            <a:xfrm flipV="1">
              <a:off x="1215000" y="3210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7" name="_s55308"/>
            <p:cNvCxnSpPr>
              <a:stCxn id="538" idx="0"/>
              <a:endCxn id="539" idx="2"/>
            </p:cNvCxnSpPr>
            <p:nvPr/>
          </p:nvCxnSpPr>
          <p:spPr>
            <a:xfrm flipV="1" rot="16200000">
              <a:off x="6156720" y="97128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0" name="_s55309"/>
            <p:cNvCxnSpPr>
              <a:stCxn id="541" idx="0"/>
              <a:endCxn id="539" idx="2"/>
            </p:cNvCxnSpPr>
            <p:nvPr/>
          </p:nvCxnSpPr>
          <p:spPr>
            <a:xfrm flipV="1" rot="16200000">
              <a:off x="5313600" y="1814400"/>
              <a:ext cx="219600" cy="1700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2" name="_s55310"/>
            <p:cNvCxnSpPr>
              <a:stCxn id="543" idx="0"/>
              <a:endCxn id="539" idx="2"/>
            </p:cNvCxnSpPr>
            <p:nvPr/>
          </p:nvCxnSpPr>
          <p:spPr>
            <a:xfrm flipV="1" rot="16200000">
              <a:off x="4470480" y="2657520"/>
              <a:ext cx="219600" cy="144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4" name="_s55311"/>
            <p:cNvCxnSpPr>
              <a:stCxn id="545" idx="0"/>
              <a:endCxn id="539" idx="2"/>
            </p:cNvCxnSpPr>
            <p:nvPr/>
          </p:nvCxnSpPr>
          <p:spPr>
            <a:xfrm flipH="1" flipV="1" rot="5400000">
              <a:off x="3628080" y="1829160"/>
              <a:ext cx="219600" cy="16714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6" name="_s55312"/>
            <p:cNvCxnSpPr>
              <a:stCxn id="536" idx="0"/>
              <a:endCxn id="539" idx="2"/>
            </p:cNvCxnSpPr>
            <p:nvPr/>
          </p:nvCxnSpPr>
          <p:spPr>
            <a:xfrm flipH="1" flipV="1" rot="5400000">
              <a:off x="2784240" y="98568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9" name="_s55313"/>
            <p:cNvSpPr/>
            <p:nvPr/>
          </p:nvSpPr>
          <p:spPr>
            <a:xfrm>
              <a:off x="3845880" y="2119680"/>
              <a:ext cx="14533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55314"/>
            <p:cNvSpPr/>
            <p:nvPr/>
          </p:nvSpPr>
          <p:spPr>
            <a:xfrm>
              <a:off x="496080" y="2774520"/>
              <a:ext cx="14364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_s55315"/>
            <p:cNvSpPr/>
            <p:nvPr/>
          </p:nvSpPr>
          <p:spPr>
            <a:xfrm>
              <a:off x="218196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_s55316"/>
            <p:cNvSpPr/>
            <p:nvPr/>
          </p:nvSpPr>
          <p:spPr>
            <a:xfrm>
              <a:off x="386820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_s55317"/>
            <p:cNvSpPr/>
            <p:nvPr/>
          </p:nvSpPr>
          <p:spPr>
            <a:xfrm>
              <a:off x="555444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_s55318"/>
            <p:cNvSpPr/>
            <p:nvPr/>
          </p:nvSpPr>
          <p:spPr>
            <a:xfrm>
              <a:off x="724068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_s55319"/>
            <p:cNvSpPr/>
            <p:nvPr/>
          </p:nvSpPr>
          <p:spPr>
            <a:xfrm>
              <a:off x="540360" y="3429720"/>
              <a:ext cx="1346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ourism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_s55324"/>
            <p:cNvSpPr/>
            <p:nvPr/>
          </p:nvSpPr>
          <p:spPr>
            <a:xfrm>
              <a:off x="468360" y="408492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eizei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_s55325"/>
            <p:cNvSpPr/>
            <p:nvPr/>
          </p:nvSpPr>
          <p:spPr>
            <a:xfrm>
              <a:off x="468360" y="4740120"/>
              <a:ext cx="14907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ltu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_s55328"/>
            <p:cNvSpPr/>
            <p:nvPr/>
          </p:nvSpPr>
          <p:spPr>
            <a:xfrm>
              <a:off x="468360" y="539496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3352680" y="2119680"/>
            <a:ext cx="2439720" cy="3506400"/>
            <a:chOff x="3352680" y="2119680"/>
            <a:chExt cx="2439720" cy="3506400"/>
          </a:xfrm>
        </p:grpSpPr>
        <p:cxnSp>
          <p:nvCxnSpPr>
            <p:cNvPr id="806" name="_s78853"/>
            <p:cNvCxnSpPr>
              <a:stCxn id="807" idx="1"/>
              <a:endCxn id="808" idx="2"/>
            </p:cNvCxnSpPr>
            <p:nvPr/>
          </p:nvCxnSpPr>
          <p:spPr>
            <a:xfrm rot="10800000">
              <a:off x="4100040" y="2554920"/>
              <a:ext cx="2509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09" name="_s78854"/>
            <p:cNvCxnSpPr>
              <a:stCxn id="810" idx="1"/>
              <a:endCxn id="808" idx="2"/>
            </p:cNvCxnSpPr>
            <p:nvPr/>
          </p:nvCxnSpPr>
          <p:spPr>
            <a:xfrm rot="10800000">
              <a:off x="4100040" y="2554920"/>
              <a:ext cx="2509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11" name="_s78855"/>
            <p:cNvCxnSpPr>
              <a:stCxn id="812" idx="1"/>
              <a:endCxn id="808" idx="2"/>
            </p:cNvCxnSpPr>
            <p:nvPr/>
          </p:nvCxnSpPr>
          <p:spPr>
            <a:xfrm rot="10800000">
              <a:off x="4100040" y="2554920"/>
              <a:ext cx="2509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13" name="_s78856"/>
            <p:cNvCxnSpPr>
              <a:stCxn id="814" idx="1"/>
              <a:endCxn id="808" idx="2"/>
            </p:cNvCxnSpPr>
            <p:nvPr/>
          </p:nvCxnSpPr>
          <p:spPr>
            <a:xfrm rot="10800000">
              <a:off x="4100040" y="2554920"/>
              <a:ext cx="2509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08" name="_s78857"/>
            <p:cNvSpPr/>
            <p:nvPr/>
          </p:nvSpPr>
          <p:spPr>
            <a:xfrm>
              <a:off x="335268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_s78858"/>
            <p:cNvSpPr/>
            <p:nvPr/>
          </p:nvSpPr>
          <p:spPr>
            <a:xfrm>
              <a:off x="4350960" y="27745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metr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_s78859"/>
            <p:cNvSpPr/>
            <p:nvPr/>
          </p:nvSpPr>
          <p:spPr>
            <a:xfrm>
              <a:off x="4350960" y="35560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lanugsRech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Und BauRech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_s78860"/>
            <p:cNvSpPr/>
            <p:nvPr/>
          </p:nvSpPr>
          <p:spPr>
            <a:xfrm>
              <a:off x="4350960" y="43369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asten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_s78861"/>
            <p:cNvSpPr/>
            <p:nvPr/>
          </p:nvSpPr>
          <p:spPr>
            <a:xfrm>
              <a:off x="4350960" y="51184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erte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3351600" y="2119680"/>
            <a:ext cx="2440800" cy="3220920"/>
            <a:chOff x="3351600" y="2119680"/>
            <a:chExt cx="2440800" cy="3220920"/>
          </a:xfrm>
        </p:grpSpPr>
        <p:cxnSp>
          <p:nvCxnSpPr>
            <p:cNvPr id="817" name="_s79877"/>
            <p:cNvCxnSpPr>
              <a:stCxn id="818" idx="1"/>
              <a:endCxn id="819" idx="2"/>
            </p:cNvCxnSpPr>
            <p:nvPr/>
          </p:nvCxnSpPr>
          <p:spPr>
            <a:xfrm rot="10800000">
              <a:off x="4098960" y="2554920"/>
              <a:ext cx="25056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0" name="_s79878"/>
            <p:cNvCxnSpPr>
              <a:stCxn id="821" idx="1"/>
              <a:endCxn id="819" idx="2"/>
            </p:cNvCxnSpPr>
            <p:nvPr/>
          </p:nvCxnSpPr>
          <p:spPr>
            <a:xfrm rot="10800000">
              <a:off x="4098960" y="2554920"/>
              <a:ext cx="25056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2" name="_s79879"/>
            <p:cNvCxnSpPr>
              <a:stCxn id="823" idx="1"/>
              <a:endCxn id="819" idx="2"/>
            </p:cNvCxnSpPr>
            <p:nvPr/>
          </p:nvCxnSpPr>
          <p:spPr>
            <a:xfrm rot="10800000">
              <a:off x="4098960" y="2554920"/>
              <a:ext cx="25056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4" name="_s79880"/>
            <p:cNvCxnSpPr>
              <a:stCxn id="825" idx="1"/>
              <a:endCxn id="819" idx="2"/>
            </p:cNvCxnSpPr>
            <p:nvPr/>
          </p:nvCxnSpPr>
          <p:spPr>
            <a:xfrm rot="10800000">
              <a:off x="4098960" y="2554920"/>
              <a:ext cx="25056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19" name="_s79881"/>
            <p:cNvSpPr/>
            <p:nvPr/>
          </p:nvSpPr>
          <p:spPr>
            <a:xfrm>
              <a:off x="3351600" y="21196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mobilie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_s79882"/>
            <p:cNvSpPr/>
            <p:nvPr/>
          </p:nvSpPr>
          <p:spPr>
            <a:xfrm>
              <a:off x="434952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2-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_s79883"/>
            <p:cNvSpPr/>
            <p:nvPr/>
          </p:nvSpPr>
          <p:spPr>
            <a:xfrm>
              <a:off x="434952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-Referen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_s79884"/>
            <p:cNvSpPr/>
            <p:nvPr/>
          </p:nvSpPr>
          <p:spPr>
            <a:xfrm>
              <a:off x="434952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aster/Vek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_s79885"/>
            <p:cNvSpPr/>
            <p:nvPr/>
          </p:nvSpPr>
          <p:spPr>
            <a:xfrm>
              <a:off x="434952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schneidung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468360" y="2119680"/>
            <a:ext cx="8208720" cy="3729960"/>
            <a:chOff x="468360" y="2119680"/>
            <a:chExt cx="8208720" cy="3729960"/>
          </a:xfrm>
        </p:grpSpPr>
        <p:cxnSp>
          <p:nvCxnSpPr>
            <p:cNvPr id="828" name="_s80901"/>
            <p:cNvCxnSpPr>
              <a:stCxn id="829" idx="0"/>
              <a:endCxn id="830" idx="2"/>
            </p:cNvCxnSpPr>
            <p:nvPr/>
          </p:nvCxnSpPr>
          <p:spPr>
            <a:xfrm flipV="1">
              <a:off x="6263640" y="5195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1" name="_s80902"/>
            <p:cNvCxnSpPr>
              <a:stCxn id="830" idx="0"/>
              <a:endCxn id="832" idx="2"/>
            </p:cNvCxnSpPr>
            <p:nvPr/>
          </p:nvCxnSpPr>
          <p:spPr>
            <a:xfrm flipV="1">
              <a:off x="6263640" y="4540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3" name="_s80903"/>
            <p:cNvCxnSpPr>
              <a:stCxn id="832" idx="0"/>
              <a:endCxn id="834" idx="2"/>
            </p:cNvCxnSpPr>
            <p:nvPr/>
          </p:nvCxnSpPr>
          <p:spPr>
            <a:xfrm flipV="1">
              <a:off x="6263640" y="3885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5" name="_s80904"/>
            <p:cNvCxnSpPr>
              <a:stCxn id="834" idx="0"/>
              <a:endCxn id="836" idx="2"/>
            </p:cNvCxnSpPr>
            <p:nvPr/>
          </p:nvCxnSpPr>
          <p:spPr>
            <a:xfrm flipV="1">
              <a:off x="6263640" y="3231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7" name="_s80905"/>
            <p:cNvCxnSpPr>
              <a:stCxn id="838" idx="0"/>
              <a:endCxn id="839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0" name="_s80906"/>
            <p:cNvCxnSpPr>
              <a:stCxn id="836" idx="0"/>
              <a:endCxn id="839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1" name="_s80907"/>
            <p:cNvCxnSpPr>
              <a:stCxn id="842" idx="0"/>
              <a:endCxn id="839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3" name="_s80908"/>
            <p:cNvCxnSpPr>
              <a:stCxn id="844" idx="0"/>
              <a:endCxn id="839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5" name="_s80909"/>
            <p:cNvCxnSpPr>
              <a:stCxn id="846" idx="0"/>
              <a:endCxn id="839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39" name="_s8091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_s80911"/>
            <p:cNvSpPr/>
            <p:nvPr/>
          </p:nvSpPr>
          <p:spPr>
            <a:xfrm>
              <a:off x="46836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_s80912"/>
            <p:cNvSpPr/>
            <p:nvPr/>
          </p:nvSpPr>
          <p:spPr>
            <a:xfrm>
              <a:off x="216000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_s80913"/>
            <p:cNvSpPr/>
            <p:nvPr/>
          </p:nvSpPr>
          <p:spPr>
            <a:xfrm>
              <a:off x="3852000" y="2774520"/>
              <a:ext cx="144108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_s80914"/>
            <p:cNvSpPr/>
            <p:nvPr/>
          </p:nvSpPr>
          <p:spPr>
            <a:xfrm>
              <a:off x="5543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_s80915"/>
            <p:cNvSpPr/>
            <p:nvPr/>
          </p:nvSpPr>
          <p:spPr>
            <a:xfrm>
              <a:off x="7235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_s80916"/>
            <p:cNvSpPr/>
            <p:nvPr/>
          </p:nvSpPr>
          <p:spPr>
            <a:xfrm>
              <a:off x="5588280" y="3450960"/>
              <a:ext cx="1352520" cy="4348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Planen u.Bau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_s80917"/>
            <p:cNvSpPr/>
            <p:nvPr/>
          </p:nvSpPr>
          <p:spPr>
            <a:xfrm>
              <a:off x="5515920" y="410472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_s80918"/>
            <p:cNvSpPr/>
            <p:nvPr/>
          </p:nvSpPr>
          <p:spPr>
            <a:xfrm>
              <a:off x="5515920" y="475956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Liegenschaf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_s80919"/>
            <p:cNvSpPr/>
            <p:nvPr/>
          </p:nvSpPr>
          <p:spPr>
            <a:xfrm>
              <a:off x="5515920" y="5415120"/>
              <a:ext cx="149580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Ver- u.Entsorgu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3306960" y="2119680"/>
            <a:ext cx="2530080" cy="3377160"/>
            <a:chOff x="3306960" y="2119680"/>
            <a:chExt cx="2530080" cy="3377160"/>
          </a:xfrm>
        </p:grpSpPr>
        <p:cxnSp>
          <p:nvCxnSpPr>
            <p:cNvPr id="849" name="_s81925"/>
            <p:cNvCxnSpPr>
              <a:stCxn id="850" idx="1"/>
              <a:endCxn id="851" idx="2"/>
            </p:cNvCxnSpPr>
            <p:nvPr/>
          </p:nvCxnSpPr>
          <p:spPr>
            <a:xfrm rot="10800000">
              <a:off x="4053960" y="2711520"/>
              <a:ext cx="24948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2" name="_s81926"/>
            <p:cNvCxnSpPr>
              <a:stCxn id="853" idx="1"/>
              <a:endCxn id="851" idx="2"/>
            </p:cNvCxnSpPr>
            <p:nvPr/>
          </p:nvCxnSpPr>
          <p:spPr>
            <a:xfrm rot="10800000">
              <a:off x="4053960" y="2711520"/>
              <a:ext cx="24948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4" name="_s81927"/>
            <p:cNvCxnSpPr>
              <a:stCxn id="855" idx="1"/>
              <a:endCxn id="851" idx="2"/>
            </p:cNvCxnSpPr>
            <p:nvPr/>
          </p:nvCxnSpPr>
          <p:spPr>
            <a:xfrm rot="10800000">
              <a:off x="4053960" y="2711520"/>
              <a:ext cx="24948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6" name="_s81928"/>
            <p:cNvCxnSpPr>
              <a:stCxn id="857" idx="1"/>
              <a:endCxn id="851" idx="2"/>
            </p:cNvCxnSpPr>
            <p:nvPr/>
          </p:nvCxnSpPr>
          <p:spPr>
            <a:xfrm rot="10800000">
              <a:off x="4053960" y="2711520"/>
              <a:ext cx="24948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51" name="_s81929"/>
            <p:cNvSpPr/>
            <p:nvPr/>
          </p:nvSpPr>
          <p:spPr>
            <a:xfrm>
              <a:off x="3306960" y="2119680"/>
              <a:ext cx="149400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_s81930"/>
            <p:cNvSpPr/>
            <p:nvPr/>
          </p:nvSpPr>
          <p:spPr>
            <a:xfrm>
              <a:off x="4303800" y="2931120"/>
              <a:ext cx="15332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_s81931"/>
            <p:cNvSpPr/>
            <p:nvPr/>
          </p:nvSpPr>
          <p:spPr>
            <a:xfrm>
              <a:off x="4303800" y="3641040"/>
              <a:ext cx="15332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rchitekt/Bauträg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_s81932"/>
            <p:cNvSpPr/>
            <p:nvPr/>
          </p:nvSpPr>
          <p:spPr>
            <a:xfrm>
              <a:off x="4303800" y="4350960"/>
              <a:ext cx="15332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kler/Bank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_s81933"/>
            <p:cNvSpPr/>
            <p:nvPr/>
          </p:nvSpPr>
          <p:spPr>
            <a:xfrm>
              <a:off x="4303800" y="5060520"/>
              <a:ext cx="15332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., 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Bauen und Umwelt &gt;&gt; Datenerzeuger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305880" y="2119680"/>
            <a:ext cx="2533680" cy="3377160"/>
            <a:chOff x="3305880" y="2119680"/>
            <a:chExt cx="2533680" cy="3377160"/>
          </a:xfrm>
        </p:grpSpPr>
        <p:cxnSp>
          <p:nvCxnSpPr>
            <p:cNvPr id="860" name="_s82949"/>
            <p:cNvCxnSpPr>
              <a:stCxn id="861" idx="1"/>
              <a:endCxn id="862" idx="2"/>
            </p:cNvCxnSpPr>
            <p:nvPr/>
          </p:nvCxnSpPr>
          <p:spPr>
            <a:xfrm rot="10800000">
              <a:off x="405288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63" name="_s82950"/>
            <p:cNvCxnSpPr>
              <a:stCxn id="864" idx="1"/>
              <a:endCxn id="862" idx="2"/>
            </p:cNvCxnSpPr>
            <p:nvPr/>
          </p:nvCxnSpPr>
          <p:spPr>
            <a:xfrm rot="10800000">
              <a:off x="405288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65" name="_s82951"/>
            <p:cNvCxnSpPr>
              <a:stCxn id="866" idx="1"/>
              <a:endCxn id="862" idx="2"/>
            </p:cNvCxnSpPr>
            <p:nvPr/>
          </p:nvCxnSpPr>
          <p:spPr>
            <a:xfrm rot="10800000">
              <a:off x="405288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67" name="_s82952"/>
            <p:cNvCxnSpPr>
              <a:stCxn id="868" idx="1"/>
              <a:endCxn id="862" idx="2"/>
            </p:cNvCxnSpPr>
            <p:nvPr/>
          </p:nvCxnSpPr>
          <p:spPr>
            <a:xfrm rot="10800000">
              <a:off x="405288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62" name="_s82953"/>
            <p:cNvSpPr/>
            <p:nvPr/>
          </p:nvSpPr>
          <p:spPr>
            <a:xfrm>
              <a:off x="3305880" y="2119680"/>
              <a:ext cx="149400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_s82954"/>
            <p:cNvSpPr/>
            <p:nvPr/>
          </p:nvSpPr>
          <p:spPr>
            <a:xfrm>
              <a:off x="4302360" y="2931120"/>
              <a:ext cx="15372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ung, OP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_s82955"/>
            <p:cNvSpPr/>
            <p:nvPr/>
          </p:nvSpPr>
          <p:spPr>
            <a:xfrm>
              <a:off x="4302360" y="3641040"/>
              <a:ext cx="15372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rdnungsbehörd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_s82956"/>
            <p:cNvSpPr/>
            <p:nvPr/>
          </p:nvSpPr>
          <p:spPr>
            <a:xfrm>
              <a:off x="4302360" y="4350960"/>
              <a:ext cx="15372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A, Geodäsi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_s82957"/>
            <p:cNvSpPr/>
            <p:nvPr/>
          </p:nvSpPr>
          <p:spPr>
            <a:xfrm>
              <a:off x="4302360" y="5060520"/>
              <a:ext cx="15372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g.-Techn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347280" y="2119680"/>
            <a:ext cx="2449440" cy="3377160"/>
            <a:chOff x="3347280" y="2119680"/>
            <a:chExt cx="2449440" cy="3377160"/>
          </a:xfrm>
        </p:grpSpPr>
        <p:cxnSp>
          <p:nvCxnSpPr>
            <p:cNvPr id="871" name="_s83973"/>
            <p:cNvCxnSpPr>
              <a:stCxn id="872" idx="1"/>
              <a:endCxn id="873" idx="2"/>
            </p:cNvCxnSpPr>
            <p:nvPr/>
          </p:nvCxnSpPr>
          <p:spPr>
            <a:xfrm rot="10800000">
              <a:off x="4094280" y="2711520"/>
              <a:ext cx="2509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4" name="_s83974"/>
            <p:cNvCxnSpPr>
              <a:stCxn id="875" idx="1"/>
              <a:endCxn id="873" idx="2"/>
            </p:cNvCxnSpPr>
            <p:nvPr/>
          </p:nvCxnSpPr>
          <p:spPr>
            <a:xfrm rot="10800000">
              <a:off x="4094280" y="2711520"/>
              <a:ext cx="2509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6" name="_s83975"/>
            <p:cNvCxnSpPr>
              <a:stCxn id="877" idx="1"/>
              <a:endCxn id="873" idx="2"/>
            </p:cNvCxnSpPr>
            <p:nvPr/>
          </p:nvCxnSpPr>
          <p:spPr>
            <a:xfrm rot="10800000">
              <a:off x="4094280" y="2711520"/>
              <a:ext cx="2509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78" name="_s83976"/>
            <p:cNvCxnSpPr>
              <a:stCxn id="879" idx="1"/>
              <a:endCxn id="873" idx="2"/>
            </p:cNvCxnSpPr>
            <p:nvPr/>
          </p:nvCxnSpPr>
          <p:spPr>
            <a:xfrm rot="10800000">
              <a:off x="4094280" y="2711520"/>
              <a:ext cx="2509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73" name="_s83977"/>
            <p:cNvSpPr/>
            <p:nvPr/>
          </p:nvSpPr>
          <p:spPr>
            <a:xfrm>
              <a:off x="3347280" y="2119680"/>
              <a:ext cx="149580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_s83978"/>
            <p:cNvSpPr/>
            <p:nvPr/>
          </p:nvSpPr>
          <p:spPr>
            <a:xfrm>
              <a:off x="4345560" y="2931120"/>
              <a:ext cx="14511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metr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_s83979"/>
            <p:cNvSpPr/>
            <p:nvPr/>
          </p:nvSpPr>
          <p:spPr>
            <a:xfrm>
              <a:off x="4345560" y="3641040"/>
              <a:ext cx="14511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PR + BR + Ordn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_s83980"/>
            <p:cNvSpPr/>
            <p:nvPr/>
          </p:nvSpPr>
          <p:spPr>
            <a:xfrm>
              <a:off x="4345560" y="4350960"/>
              <a:ext cx="14511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„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asten“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_s83981"/>
            <p:cNvSpPr/>
            <p:nvPr/>
          </p:nvSpPr>
          <p:spPr>
            <a:xfrm>
              <a:off x="4345560" y="5060520"/>
              <a:ext cx="14511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Eigent., Wer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3352680" y="2119680"/>
            <a:ext cx="2439720" cy="3377160"/>
            <a:chOff x="3352680" y="2119680"/>
            <a:chExt cx="2439720" cy="3377160"/>
          </a:xfrm>
        </p:grpSpPr>
        <p:cxnSp>
          <p:nvCxnSpPr>
            <p:cNvPr id="882" name="_s84997"/>
            <p:cNvCxnSpPr>
              <a:stCxn id="883" idx="1"/>
              <a:endCxn id="884" idx="2"/>
            </p:cNvCxnSpPr>
            <p:nvPr/>
          </p:nvCxnSpPr>
          <p:spPr>
            <a:xfrm rot="10800000">
              <a:off x="4100040" y="27115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5" name="_s84998"/>
            <p:cNvCxnSpPr>
              <a:stCxn id="886" idx="1"/>
              <a:endCxn id="884" idx="2"/>
            </p:cNvCxnSpPr>
            <p:nvPr/>
          </p:nvCxnSpPr>
          <p:spPr>
            <a:xfrm rot="10800000">
              <a:off x="4100040" y="27115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7" name="_s84999"/>
            <p:cNvCxnSpPr>
              <a:stCxn id="888" idx="1"/>
              <a:endCxn id="884" idx="2"/>
            </p:cNvCxnSpPr>
            <p:nvPr/>
          </p:nvCxnSpPr>
          <p:spPr>
            <a:xfrm rot="10800000">
              <a:off x="4100040" y="2711520"/>
              <a:ext cx="249120" cy="1146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89" name="_s85000"/>
            <p:cNvCxnSpPr>
              <a:stCxn id="890" idx="1"/>
              <a:endCxn id="884" idx="2"/>
            </p:cNvCxnSpPr>
            <p:nvPr/>
          </p:nvCxnSpPr>
          <p:spPr>
            <a:xfrm rot="10800000">
              <a:off x="4100040" y="27115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84" name="_s85001"/>
            <p:cNvSpPr/>
            <p:nvPr/>
          </p:nvSpPr>
          <p:spPr>
            <a:xfrm>
              <a:off x="3352680" y="2119680"/>
              <a:ext cx="1494360" cy="592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uen u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mwel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_s85002"/>
            <p:cNvSpPr/>
            <p:nvPr/>
          </p:nvSpPr>
          <p:spPr>
            <a:xfrm>
              <a:off x="4349520" y="29311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1-2(3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_s85003"/>
            <p:cNvSpPr/>
            <p:nvPr/>
          </p:nvSpPr>
          <p:spPr>
            <a:xfrm>
              <a:off x="4349520" y="3641040"/>
              <a:ext cx="1442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ktor (+Raster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_s85004"/>
            <p:cNvSpPr/>
            <p:nvPr/>
          </p:nvSpPr>
          <p:spPr>
            <a:xfrm>
              <a:off x="4349520" y="435096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D-Too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_s85005"/>
            <p:cNvSpPr/>
            <p:nvPr/>
          </p:nvSpPr>
          <p:spPr>
            <a:xfrm>
              <a:off x="4349520" y="5060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468360" y="2119680"/>
            <a:ext cx="8208720" cy="3719160"/>
            <a:chOff x="468360" y="2119680"/>
            <a:chExt cx="8208720" cy="3719160"/>
          </a:xfrm>
        </p:grpSpPr>
        <p:cxnSp>
          <p:nvCxnSpPr>
            <p:cNvPr id="893" name="_s86021"/>
            <p:cNvCxnSpPr>
              <a:stCxn id="894" idx="0"/>
              <a:endCxn id="895" idx="2"/>
            </p:cNvCxnSpPr>
            <p:nvPr/>
          </p:nvCxnSpPr>
          <p:spPr>
            <a:xfrm flipV="1">
              <a:off x="7931160" y="51850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6" name="_s86022"/>
            <p:cNvCxnSpPr>
              <a:stCxn id="895" idx="0"/>
              <a:endCxn id="897" idx="2"/>
            </p:cNvCxnSpPr>
            <p:nvPr/>
          </p:nvCxnSpPr>
          <p:spPr>
            <a:xfrm flipV="1">
              <a:off x="7931160" y="4529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8" name="_s86023"/>
            <p:cNvCxnSpPr>
              <a:stCxn id="897" idx="0"/>
              <a:endCxn id="899" idx="2"/>
            </p:cNvCxnSpPr>
            <p:nvPr/>
          </p:nvCxnSpPr>
          <p:spPr>
            <a:xfrm flipH="1" flipV="1" rot="5400000">
              <a:off x="7822080" y="3984840"/>
              <a:ext cx="219600" cy="216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0" name="_s86024"/>
            <p:cNvCxnSpPr>
              <a:stCxn id="899" idx="0"/>
              <a:endCxn id="901" idx="2"/>
            </p:cNvCxnSpPr>
            <p:nvPr/>
          </p:nvCxnSpPr>
          <p:spPr>
            <a:xfrm flipV="1">
              <a:off x="7932240" y="322272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2" name="_s86025"/>
            <p:cNvCxnSpPr>
              <a:stCxn id="901" idx="0"/>
              <a:endCxn id="903" idx="2"/>
            </p:cNvCxnSpPr>
            <p:nvPr/>
          </p:nvCxnSpPr>
          <p:spPr>
            <a:xfrm flipV="1" rot="16200000">
              <a:off x="6143400" y="98532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4" name="_s86026"/>
            <p:cNvCxnSpPr>
              <a:stCxn id="905" idx="0"/>
              <a:endCxn id="903" idx="2"/>
            </p:cNvCxnSpPr>
            <p:nvPr/>
          </p:nvCxnSpPr>
          <p:spPr>
            <a:xfrm flipV="1" rot="16200000">
              <a:off x="5299560" y="1829160"/>
              <a:ext cx="219600" cy="16711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6" name="_s86027"/>
            <p:cNvCxnSpPr>
              <a:stCxn id="907" idx="0"/>
              <a:endCxn id="903" idx="2"/>
            </p:cNvCxnSpPr>
            <p:nvPr/>
          </p:nvCxnSpPr>
          <p:spPr>
            <a:xfrm flipH="1" flipV="1" rot="5400000">
              <a:off x="4456800" y="2657160"/>
              <a:ext cx="219600" cy="158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08" name="_s86028"/>
            <p:cNvCxnSpPr>
              <a:stCxn id="909" idx="0"/>
              <a:endCxn id="903" idx="2"/>
            </p:cNvCxnSpPr>
            <p:nvPr/>
          </p:nvCxnSpPr>
          <p:spPr>
            <a:xfrm flipH="1" flipV="1" rot="5400000">
              <a:off x="3613680" y="1814040"/>
              <a:ext cx="219600" cy="17020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0" name="_s86029"/>
            <p:cNvCxnSpPr>
              <a:stCxn id="911" idx="0"/>
              <a:endCxn id="903" idx="2"/>
            </p:cNvCxnSpPr>
            <p:nvPr/>
          </p:nvCxnSpPr>
          <p:spPr>
            <a:xfrm flipH="1" flipV="1" rot="5400000">
              <a:off x="2771280" y="97164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03" name="_s86030"/>
            <p:cNvSpPr/>
            <p:nvPr/>
          </p:nvSpPr>
          <p:spPr>
            <a:xfrm>
              <a:off x="3845880" y="2119680"/>
              <a:ext cx="1454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_s86031"/>
            <p:cNvSpPr/>
            <p:nvPr/>
          </p:nvSpPr>
          <p:spPr>
            <a:xfrm>
              <a:off x="4683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_s86032"/>
            <p:cNvSpPr/>
            <p:nvPr/>
          </p:nvSpPr>
          <p:spPr>
            <a:xfrm>
              <a:off x="2154600" y="2774520"/>
              <a:ext cx="143748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_s86033"/>
            <p:cNvSpPr/>
            <p:nvPr/>
          </p:nvSpPr>
          <p:spPr>
            <a:xfrm>
              <a:off x="384084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_s86034"/>
            <p:cNvSpPr/>
            <p:nvPr/>
          </p:nvSpPr>
          <p:spPr>
            <a:xfrm>
              <a:off x="552672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_s86035"/>
            <p:cNvSpPr/>
            <p:nvPr/>
          </p:nvSpPr>
          <p:spPr>
            <a:xfrm>
              <a:off x="72129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_s86036"/>
            <p:cNvSpPr/>
            <p:nvPr/>
          </p:nvSpPr>
          <p:spPr>
            <a:xfrm>
              <a:off x="7257240" y="3441960"/>
              <a:ext cx="13492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Verkehrsplanu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_s86037"/>
            <p:cNvSpPr/>
            <p:nvPr/>
          </p:nvSpPr>
          <p:spPr>
            <a:xfrm>
              <a:off x="7185240" y="409536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Hoch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_s86038"/>
            <p:cNvSpPr/>
            <p:nvPr/>
          </p:nvSpPr>
          <p:spPr>
            <a:xfrm>
              <a:off x="7185240" y="4749120"/>
              <a:ext cx="14918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Tief- u. Ing.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_s86039"/>
            <p:cNvSpPr/>
            <p:nvPr/>
          </p:nvSpPr>
          <p:spPr>
            <a:xfrm>
              <a:off x="7185240" y="540432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3237480" y="2119680"/>
            <a:ext cx="2669040" cy="3220920"/>
            <a:chOff x="3237480" y="2119680"/>
            <a:chExt cx="2669040" cy="3220920"/>
          </a:xfrm>
        </p:grpSpPr>
        <p:cxnSp>
          <p:nvCxnSpPr>
            <p:cNvPr id="914" name="_s87045"/>
            <p:cNvCxnSpPr>
              <a:stCxn id="915" idx="1"/>
              <a:endCxn id="916" idx="2"/>
            </p:cNvCxnSpPr>
            <p:nvPr/>
          </p:nvCxnSpPr>
          <p:spPr>
            <a:xfrm rot="10800000">
              <a:off x="4124880" y="2554920"/>
              <a:ext cx="24948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7" name="_s87046"/>
            <p:cNvCxnSpPr>
              <a:stCxn id="918" idx="1"/>
              <a:endCxn id="916" idx="2"/>
            </p:cNvCxnSpPr>
            <p:nvPr/>
          </p:nvCxnSpPr>
          <p:spPr>
            <a:xfrm rot="10800000">
              <a:off x="4124880" y="2554920"/>
              <a:ext cx="24948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9" name="_s87047"/>
            <p:cNvCxnSpPr>
              <a:stCxn id="920" idx="1"/>
              <a:endCxn id="916" idx="2"/>
            </p:cNvCxnSpPr>
            <p:nvPr/>
          </p:nvCxnSpPr>
          <p:spPr>
            <a:xfrm rot="10800000">
              <a:off x="4124880" y="2554920"/>
              <a:ext cx="24948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1" name="_s87048"/>
            <p:cNvCxnSpPr>
              <a:stCxn id="922" idx="1"/>
              <a:endCxn id="916" idx="2"/>
            </p:cNvCxnSpPr>
            <p:nvPr/>
          </p:nvCxnSpPr>
          <p:spPr>
            <a:xfrm rot="10800000">
              <a:off x="4124880" y="2554920"/>
              <a:ext cx="24948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16" name="_s87049"/>
            <p:cNvSpPr/>
            <p:nvPr/>
          </p:nvSpPr>
          <p:spPr>
            <a:xfrm>
              <a:off x="3237480" y="2119680"/>
              <a:ext cx="17751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_s87050"/>
            <p:cNvSpPr/>
            <p:nvPr/>
          </p:nvSpPr>
          <p:spPr>
            <a:xfrm>
              <a:off x="4374720" y="2774520"/>
              <a:ext cx="1531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Fach-Ing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_s87051"/>
            <p:cNvSpPr/>
            <p:nvPr/>
          </p:nvSpPr>
          <p:spPr>
            <a:xfrm>
              <a:off x="4374720" y="3484080"/>
              <a:ext cx="1531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auordn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_s87052"/>
            <p:cNvSpPr/>
            <p:nvPr/>
          </p:nvSpPr>
          <p:spPr>
            <a:xfrm>
              <a:off x="4374720" y="4194360"/>
              <a:ext cx="1531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r, Ausfüh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_s87053"/>
            <p:cNvSpPr/>
            <p:nvPr/>
          </p:nvSpPr>
          <p:spPr>
            <a:xfrm>
              <a:off x="4374720" y="4904280"/>
              <a:ext cx="1531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Ingenieurtechnik &gt;&gt; Datenerzeuger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3255480" y="2119680"/>
            <a:ext cx="2634120" cy="3506400"/>
            <a:chOff x="3255480" y="2119680"/>
            <a:chExt cx="2634120" cy="3506400"/>
          </a:xfrm>
        </p:grpSpPr>
        <p:cxnSp>
          <p:nvCxnSpPr>
            <p:cNvPr id="925" name="_s88069"/>
            <p:cNvCxnSpPr>
              <a:stCxn id="926" idx="1"/>
              <a:endCxn id="927" idx="2"/>
            </p:cNvCxnSpPr>
            <p:nvPr/>
          </p:nvCxnSpPr>
          <p:spPr>
            <a:xfrm rot="10800000">
              <a:off x="4143240" y="2554920"/>
              <a:ext cx="24912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8" name="_s88070"/>
            <p:cNvCxnSpPr>
              <a:stCxn id="929" idx="1"/>
              <a:endCxn id="927" idx="2"/>
            </p:cNvCxnSpPr>
            <p:nvPr/>
          </p:nvCxnSpPr>
          <p:spPr>
            <a:xfrm rot="10800000">
              <a:off x="4143240" y="2554920"/>
              <a:ext cx="24912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0" name="_s88071"/>
            <p:cNvCxnSpPr>
              <a:stCxn id="931" idx="1"/>
              <a:endCxn id="927" idx="2"/>
            </p:cNvCxnSpPr>
            <p:nvPr/>
          </p:nvCxnSpPr>
          <p:spPr>
            <a:xfrm rot="10800000">
              <a:off x="4143240" y="2554920"/>
              <a:ext cx="24912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2" name="_s88072"/>
            <p:cNvCxnSpPr>
              <a:stCxn id="933" idx="1"/>
              <a:endCxn id="927" idx="2"/>
            </p:cNvCxnSpPr>
            <p:nvPr/>
          </p:nvCxnSpPr>
          <p:spPr>
            <a:xfrm rot="10800000">
              <a:off x="4143240" y="2554920"/>
              <a:ext cx="24912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7" name="_s88073"/>
            <p:cNvSpPr/>
            <p:nvPr/>
          </p:nvSpPr>
          <p:spPr>
            <a:xfrm>
              <a:off x="3255480" y="2119680"/>
              <a:ext cx="17751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_s88074"/>
            <p:cNvSpPr/>
            <p:nvPr/>
          </p:nvSpPr>
          <p:spPr>
            <a:xfrm>
              <a:off x="4392720" y="277452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achingenieu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_s88075"/>
            <p:cNvSpPr/>
            <p:nvPr/>
          </p:nvSpPr>
          <p:spPr>
            <a:xfrm>
              <a:off x="4392720" y="355608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GeoB+PR +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FachRech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_s88076"/>
            <p:cNvSpPr/>
            <p:nvPr/>
          </p:nvSpPr>
          <p:spPr>
            <a:xfrm>
              <a:off x="4392720" y="433692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.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_s88077"/>
            <p:cNvSpPr/>
            <p:nvPr/>
          </p:nvSpPr>
          <p:spPr>
            <a:xfrm>
              <a:off x="4392720" y="5118480"/>
              <a:ext cx="149688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Markt und Möglichkeit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468360" y="2119680"/>
            <a:ext cx="8208720" cy="3713040"/>
            <a:chOff x="468360" y="2119680"/>
            <a:chExt cx="8208720" cy="3713040"/>
          </a:xfrm>
        </p:grpSpPr>
        <p:cxnSp>
          <p:nvCxnSpPr>
            <p:cNvPr id="549" name="_s64547"/>
            <p:cNvCxnSpPr>
              <a:stCxn id="550" idx="0"/>
              <a:endCxn id="551" idx="2"/>
            </p:cNvCxnSpPr>
            <p:nvPr/>
          </p:nvCxnSpPr>
          <p:spPr>
            <a:xfrm flipV="1">
              <a:off x="2881800" y="5178960"/>
              <a:ext cx="2160" cy="221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2" name="_s64545"/>
            <p:cNvCxnSpPr>
              <a:stCxn id="551" idx="0"/>
              <a:endCxn id="553" idx="2"/>
            </p:cNvCxnSpPr>
            <p:nvPr/>
          </p:nvCxnSpPr>
          <p:spPr>
            <a:xfrm flipV="1">
              <a:off x="2881800" y="45237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4" name="_s64541"/>
            <p:cNvCxnSpPr>
              <a:stCxn id="553" idx="0"/>
              <a:endCxn id="555" idx="2"/>
            </p:cNvCxnSpPr>
            <p:nvPr/>
          </p:nvCxnSpPr>
          <p:spPr>
            <a:xfrm flipV="1">
              <a:off x="2881800" y="38685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6" name="_s64537"/>
            <p:cNvCxnSpPr>
              <a:stCxn id="555" idx="0"/>
              <a:endCxn id="557" idx="2"/>
            </p:cNvCxnSpPr>
            <p:nvPr/>
          </p:nvCxnSpPr>
          <p:spPr>
            <a:xfrm flipV="1">
              <a:off x="2881800" y="321516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58" name="_s64521"/>
            <p:cNvCxnSpPr>
              <a:stCxn id="559" idx="0"/>
              <a:endCxn id="560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1" name="_s64522"/>
            <p:cNvCxnSpPr>
              <a:stCxn id="562" idx="0"/>
              <a:endCxn id="560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3" name="_s64523"/>
            <p:cNvCxnSpPr>
              <a:stCxn id="564" idx="0"/>
              <a:endCxn id="560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5" name="_s64524"/>
            <p:cNvCxnSpPr>
              <a:stCxn id="557" idx="0"/>
              <a:endCxn id="560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6" name="_s64525"/>
            <p:cNvCxnSpPr>
              <a:stCxn id="567" idx="0"/>
              <a:endCxn id="560" idx="2"/>
            </p:cNvCxnSpPr>
            <p:nvPr/>
          </p:nvCxnSpPr>
          <p:spPr>
            <a:xfrm flipH="1" flipV="1" rot="5400000">
              <a:off x="2771640" y="973080"/>
              <a:ext cx="219600" cy="3383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60" name="_s64526"/>
            <p:cNvSpPr/>
            <p:nvPr/>
          </p:nvSpPr>
          <p:spPr>
            <a:xfrm>
              <a:off x="3843000" y="2119680"/>
              <a:ext cx="14590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560" rIns="2556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_s64527"/>
            <p:cNvSpPr/>
            <p:nvPr/>
          </p:nvSpPr>
          <p:spPr>
            <a:xfrm>
              <a:off x="4683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_s64528"/>
            <p:cNvSpPr/>
            <p:nvPr/>
          </p:nvSpPr>
          <p:spPr>
            <a:xfrm>
              <a:off x="2160000" y="2774520"/>
              <a:ext cx="1442160" cy="44064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_s64529"/>
            <p:cNvSpPr/>
            <p:nvPr/>
          </p:nvSpPr>
          <p:spPr>
            <a:xfrm>
              <a:off x="385164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_s64530"/>
            <p:cNvSpPr/>
            <p:nvPr/>
          </p:nvSpPr>
          <p:spPr>
            <a:xfrm>
              <a:off x="554328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_s64531"/>
            <p:cNvSpPr/>
            <p:nvPr/>
          </p:nvSpPr>
          <p:spPr>
            <a:xfrm>
              <a:off x="7234560" y="2774520"/>
              <a:ext cx="1442520" cy="440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000" rIns="27000" tIns="13320" bIns="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_s64536"/>
            <p:cNvSpPr/>
            <p:nvPr/>
          </p:nvSpPr>
          <p:spPr>
            <a:xfrm>
              <a:off x="2204640" y="3434400"/>
              <a:ext cx="13532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600" rIns="576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elbe Sei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_s64540"/>
            <p:cNvSpPr/>
            <p:nvPr/>
          </p:nvSpPr>
          <p:spPr>
            <a:xfrm>
              <a:off x="2131920" y="4087800"/>
              <a:ext cx="1496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nd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_s64544"/>
            <p:cNvSpPr/>
            <p:nvPr/>
          </p:nvSpPr>
          <p:spPr>
            <a:xfrm>
              <a:off x="2131920" y="4743000"/>
              <a:ext cx="149688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400" rIns="774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nbiet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_s64546"/>
            <p:cNvSpPr/>
            <p:nvPr/>
          </p:nvSpPr>
          <p:spPr>
            <a:xfrm>
              <a:off x="2131920" y="5398200"/>
              <a:ext cx="14968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Dat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255480" y="2119680"/>
            <a:ext cx="2633040" cy="3220920"/>
            <a:chOff x="3255480" y="2119680"/>
            <a:chExt cx="2633040" cy="3220920"/>
          </a:xfrm>
        </p:grpSpPr>
        <p:cxnSp>
          <p:nvCxnSpPr>
            <p:cNvPr id="936" name="_s89093"/>
            <p:cNvCxnSpPr>
              <a:stCxn id="937" idx="1"/>
              <a:endCxn id="938" idx="2"/>
            </p:cNvCxnSpPr>
            <p:nvPr/>
          </p:nvCxnSpPr>
          <p:spPr>
            <a:xfrm rot="10800000">
              <a:off x="4143240" y="25549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9" name="_s89094"/>
            <p:cNvCxnSpPr>
              <a:stCxn id="940" idx="1"/>
              <a:endCxn id="938" idx="2"/>
            </p:cNvCxnSpPr>
            <p:nvPr/>
          </p:nvCxnSpPr>
          <p:spPr>
            <a:xfrm rot="10800000">
              <a:off x="4143240" y="25549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41" name="_s89095"/>
            <p:cNvCxnSpPr>
              <a:stCxn id="942" idx="1"/>
              <a:endCxn id="938" idx="2"/>
            </p:cNvCxnSpPr>
            <p:nvPr/>
          </p:nvCxnSpPr>
          <p:spPr>
            <a:xfrm rot="10800000">
              <a:off x="4143240" y="2554920"/>
              <a:ext cx="2491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43" name="_s89096"/>
            <p:cNvCxnSpPr>
              <a:stCxn id="944" idx="1"/>
              <a:endCxn id="938" idx="2"/>
            </p:cNvCxnSpPr>
            <p:nvPr/>
          </p:nvCxnSpPr>
          <p:spPr>
            <a:xfrm rot="10800000">
              <a:off x="4143240" y="25549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38" name="_s89097"/>
            <p:cNvSpPr/>
            <p:nvPr/>
          </p:nvSpPr>
          <p:spPr>
            <a:xfrm>
              <a:off x="3255480" y="2119680"/>
              <a:ext cx="17737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_s89098"/>
            <p:cNvSpPr/>
            <p:nvPr/>
          </p:nvSpPr>
          <p:spPr>
            <a:xfrm>
              <a:off x="4392720" y="277452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:1-Geometr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_s89099"/>
            <p:cNvSpPr/>
            <p:nvPr/>
          </p:nvSpPr>
          <p:spPr>
            <a:xfrm>
              <a:off x="4392720" y="348408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 + F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_s89100"/>
            <p:cNvSpPr/>
            <p:nvPr/>
          </p:nvSpPr>
          <p:spPr>
            <a:xfrm>
              <a:off x="4392720" y="419436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onder-Topograf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_s89101"/>
            <p:cNvSpPr/>
            <p:nvPr/>
          </p:nvSpPr>
          <p:spPr>
            <a:xfrm>
              <a:off x="4392720" y="490428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öhen, 3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technische Aspekt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3282120" y="2119680"/>
            <a:ext cx="2580120" cy="3220920"/>
            <a:chOff x="3282120" y="2119680"/>
            <a:chExt cx="2580120" cy="3220920"/>
          </a:xfrm>
        </p:grpSpPr>
        <p:cxnSp>
          <p:nvCxnSpPr>
            <p:cNvPr id="947" name="_s90117"/>
            <p:cNvCxnSpPr>
              <a:stCxn id="948" idx="1"/>
              <a:endCxn id="949" idx="2"/>
            </p:cNvCxnSpPr>
            <p:nvPr/>
          </p:nvCxnSpPr>
          <p:spPr>
            <a:xfrm rot="10800000">
              <a:off x="4168080" y="2554920"/>
              <a:ext cx="2509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0" name="_s90118"/>
            <p:cNvCxnSpPr>
              <a:stCxn id="951" idx="1"/>
              <a:endCxn id="949" idx="2"/>
            </p:cNvCxnSpPr>
            <p:nvPr/>
          </p:nvCxnSpPr>
          <p:spPr>
            <a:xfrm rot="10800000">
              <a:off x="4168080" y="2554920"/>
              <a:ext cx="2509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2" name="_s90119"/>
            <p:cNvCxnSpPr>
              <a:stCxn id="953" idx="1"/>
              <a:endCxn id="949" idx="2"/>
            </p:cNvCxnSpPr>
            <p:nvPr/>
          </p:nvCxnSpPr>
          <p:spPr>
            <a:xfrm rot="10800000">
              <a:off x="4168080" y="2554920"/>
              <a:ext cx="2509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4" name="_s90120"/>
            <p:cNvCxnSpPr>
              <a:stCxn id="955" idx="1"/>
              <a:endCxn id="949" idx="2"/>
            </p:cNvCxnSpPr>
            <p:nvPr/>
          </p:nvCxnSpPr>
          <p:spPr>
            <a:xfrm rot="10800000">
              <a:off x="4168080" y="2554920"/>
              <a:ext cx="2509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49" name="_s90121"/>
            <p:cNvSpPr/>
            <p:nvPr/>
          </p:nvSpPr>
          <p:spPr>
            <a:xfrm>
              <a:off x="3282120" y="2119680"/>
              <a:ext cx="17733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genieurtechni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_s90122"/>
            <p:cNvSpPr/>
            <p:nvPr/>
          </p:nvSpPr>
          <p:spPr>
            <a:xfrm>
              <a:off x="441936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RBE 1-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_s90123"/>
            <p:cNvSpPr/>
            <p:nvPr/>
          </p:nvSpPr>
          <p:spPr>
            <a:xfrm>
              <a:off x="441936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ktor (+Raster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_s90124"/>
            <p:cNvSpPr/>
            <p:nvPr/>
          </p:nvSpPr>
          <p:spPr>
            <a:xfrm>
              <a:off x="441936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AD-Too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_s90125"/>
            <p:cNvSpPr/>
            <p:nvPr/>
          </p:nvSpPr>
          <p:spPr>
            <a:xfrm>
              <a:off x="441936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mmobilien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68360" y="2119680"/>
            <a:ext cx="8208720" cy="3706920"/>
            <a:chOff x="468360" y="2119680"/>
            <a:chExt cx="8208720" cy="3706920"/>
          </a:xfrm>
        </p:grpSpPr>
        <p:cxnSp>
          <p:nvCxnSpPr>
            <p:cNvPr id="570" name="_s65567"/>
            <p:cNvCxnSpPr>
              <a:stCxn id="571" idx="0"/>
              <a:endCxn id="572" idx="2"/>
            </p:cNvCxnSpPr>
            <p:nvPr/>
          </p:nvCxnSpPr>
          <p:spPr>
            <a:xfrm flipV="1">
              <a:off x="4571640" y="51742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3" name="_s65565"/>
            <p:cNvCxnSpPr>
              <a:stCxn id="572" idx="0"/>
              <a:endCxn id="574" idx="2"/>
            </p:cNvCxnSpPr>
            <p:nvPr/>
          </p:nvCxnSpPr>
          <p:spPr>
            <a:xfrm flipV="1">
              <a:off x="4571640" y="451908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5" name="_s65563"/>
            <p:cNvCxnSpPr>
              <a:stCxn id="574" idx="0"/>
              <a:endCxn id="576" idx="2"/>
            </p:cNvCxnSpPr>
            <p:nvPr/>
          </p:nvCxnSpPr>
          <p:spPr>
            <a:xfrm flipV="1">
              <a:off x="4571640" y="386424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7" name="_s65561"/>
            <p:cNvCxnSpPr>
              <a:stCxn id="576" idx="0"/>
              <a:endCxn id="578" idx="2"/>
            </p:cNvCxnSpPr>
            <p:nvPr/>
          </p:nvCxnSpPr>
          <p:spPr>
            <a:xfrm flipH="1" flipV="1" rot="5400000">
              <a:off x="4462560" y="3319200"/>
              <a:ext cx="219600" cy="1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79" name="_s65545"/>
            <p:cNvCxnSpPr>
              <a:stCxn id="580" idx="0"/>
              <a:endCxn id="581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2" name="_s65546"/>
            <p:cNvCxnSpPr>
              <a:stCxn id="583" idx="0"/>
              <a:endCxn id="581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4" name="_s65547"/>
            <p:cNvCxnSpPr>
              <a:stCxn id="578" idx="0"/>
              <a:endCxn id="581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5" name="_s65548"/>
            <p:cNvCxnSpPr>
              <a:stCxn id="586" idx="0"/>
              <a:endCxn id="581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7" name="_s65549"/>
            <p:cNvCxnSpPr>
              <a:stCxn id="588" idx="0"/>
              <a:endCxn id="581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81" name="_s6555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440" rIns="1944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_s65551"/>
            <p:cNvSpPr/>
            <p:nvPr/>
          </p:nvSpPr>
          <p:spPr>
            <a:xfrm>
              <a:off x="46836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_s65552"/>
            <p:cNvSpPr/>
            <p:nvPr/>
          </p:nvSpPr>
          <p:spPr>
            <a:xfrm>
              <a:off x="21600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_s65553"/>
            <p:cNvSpPr/>
            <p:nvPr/>
          </p:nvSpPr>
          <p:spPr>
            <a:xfrm>
              <a:off x="3852000" y="2774520"/>
              <a:ext cx="14410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_s65554"/>
            <p:cNvSpPr/>
            <p:nvPr/>
          </p:nvSpPr>
          <p:spPr>
            <a:xfrm>
              <a:off x="5543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"/>
                </a:rPr>
                <a:t>Bauen  und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_s65555"/>
            <p:cNvSpPr/>
            <p:nvPr/>
          </p:nvSpPr>
          <p:spPr>
            <a:xfrm>
              <a:off x="723564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7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_s65560"/>
            <p:cNvSpPr/>
            <p:nvPr/>
          </p:nvSpPr>
          <p:spPr>
            <a:xfrm>
              <a:off x="3896640" y="3429720"/>
              <a:ext cx="13510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Richtwert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_s65562"/>
            <p:cNvSpPr/>
            <p:nvPr/>
          </p:nvSpPr>
          <p:spPr>
            <a:xfrm>
              <a:off x="3823920" y="408348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560" bIns="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Generelles OP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_s65564"/>
            <p:cNvSpPr/>
            <p:nvPr/>
          </p:nvSpPr>
          <p:spPr>
            <a:xfrm>
              <a:off x="3823920" y="473832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Baulück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_s65566"/>
            <p:cNvSpPr/>
            <p:nvPr/>
          </p:nvSpPr>
          <p:spPr>
            <a:xfrm>
              <a:off x="3823920" y="5393520"/>
              <a:ext cx="1495800" cy="4330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auen und Umwelt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468360" y="2119680"/>
            <a:ext cx="8208720" cy="3729960"/>
            <a:chOff x="468360" y="2119680"/>
            <a:chExt cx="8208720" cy="3729960"/>
          </a:xfrm>
        </p:grpSpPr>
        <p:cxnSp>
          <p:nvCxnSpPr>
            <p:cNvPr id="591" name="_s91141"/>
            <p:cNvCxnSpPr>
              <a:stCxn id="592" idx="0"/>
              <a:endCxn id="593" idx="2"/>
            </p:cNvCxnSpPr>
            <p:nvPr/>
          </p:nvCxnSpPr>
          <p:spPr>
            <a:xfrm flipV="1">
              <a:off x="6263640" y="5195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4" name="_s91142"/>
            <p:cNvCxnSpPr>
              <a:stCxn id="593" idx="0"/>
              <a:endCxn id="595" idx="2"/>
            </p:cNvCxnSpPr>
            <p:nvPr/>
          </p:nvCxnSpPr>
          <p:spPr>
            <a:xfrm flipV="1">
              <a:off x="6263640" y="4540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6" name="_s91143"/>
            <p:cNvCxnSpPr>
              <a:stCxn id="595" idx="0"/>
              <a:endCxn id="597" idx="2"/>
            </p:cNvCxnSpPr>
            <p:nvPr/>
          </p:nvCxnSpPr>
          <p:spPr>
            <a:xfrm flipV="1">
              <a:off x="6263640" y="3885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98" name="_s91144"/>
            <p:cNvCxnSpPr>
              <a:stCxn id="597" idx="0"/>
              <a:endCxn id="599" idx="2"/>
            </p:cNvCxnSpPr>
            <p:nvPr/>
          </p:nvCxnSpPr>
          <p:spPr>
            <a:xfrm flipV="1">
              <a:off x="6263640" y="3231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0" name="_s91145"/>
            <p:cNvCxnSpPr>
              <a:stCxn id="601" idx="0"/>
              <a:endCxn id="602" idx="2"/>
            </p:cNvCxnSpPr>
            <p:nvPr/>
          </p:nvCxnSpPr>
          <p:spPr>
            <a:xfrm flipV="1" rot="16200000">
              <a:off x="6155280" y="972720"/>
              <a:ext cx="219600" cy="3384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3" name="_s91146"/>
            <p:cNvCxnSpPr>
              <a:stCxn id="599" idx="0"/>
              <a:endCxn id="602" idx="2"/>
            </p:cNvCxnSpPr>
            <p:nvPr/>
          </p:nvCxnSpPr>
          <p:spPr>
            <a:xfrm flipV="1" rot="16200000">
              <a:off x="5308560" y="1819440"/>
              <a:ext cx="219600" cy="16909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4" name="_s91147"/>
            <p:cNvCxnSpPr>
              <a:stCxn id="605" idx="0"/>
              <a:endCxn id="602" idx="2"/>
            </p:cNvCxnSpPr>
            <p:nvPr/>
          </p:nvCxnSpPr>
          <p:spPr>
            <a:xfrm flipV="1">
              <a:off x="4573440" y="25552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6" name="_s91148"/>
            <p:cNvCxnSpPr>
              <a:stCxn id="607" idx="0"/>
              <a:endCxn id="602" idx="2"/>
            </p:cNvCxnSpPr>
            <p:nvPr/>
          </p:nvCxnSpPr>
          <p:spPr>
            <a:xfrm flipH="1" flipV="1" rot="5400000">
              <a:off x="3617640" y="1819080"/>
              <a:ext cx="219600" cy="16920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8" name="_s91149"/>
            <p:cNvCxnSpPr>
              <a:stCxn id="609" idx="0"/>
              <a:endCxn id="602" idx="2"/>
            </p:cNvCxnSpPr>
            <p:nvPr/>
          </p:nvCxnSpPr>
          <p:spPr>
            <a:xfrm flipH="1" flipV="1" rot="5400000">
              <a:off x="2770920" y="972360"/>
              <a:ext cx="219600" cy="33854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2" name="_s91150"/>
            <p:cNvSpPr/>
            <p:nvPr/>
          </p:nvSpPr>
          <p:spPr>
            <a:xfrm>
              <a:off x="38437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_s91151"/>
            <p:cNvSpPr/>
            <p:nvPr/>
          </p:nvSpPr>
          <p:spPr>
            <a:xfrm>
              <a:off x="46836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_s91152"/>
            <p:cNvSpPr/>
            <p:nvPr/>
          </p:nvSpPr>
          <p:spPr>
            <a:xfrm>
              <a:off x="216000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_s91153"/>
            <p:cNvSpPr/>
            <p:nvPr/>
          </p:nvSpPr>
          <p:spPr>
            <a:xfrm>
              <a:off x="3852000" y="2774520"/>
              <a:ext cx="144108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_s91154"/>
            <p:cNvSpPr/>
            <p:nvPr/>
          </p:nvSpPr>
          <p:spPr>
            <a:xfrm>
              <a:off x="5543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_s91155"/>
            <p:cNvSpPr/>
            <p:nvPr/>
          </p:nvSpPr>
          <p:spPr>
            <a:xfrm>
              <a:off x="7235640" y="2774520"/>
              <a:ext cx="1441440" cy="457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_s91156"/>
            <p:cNvSpPr/>
            <p:nvPr/>
          </p:nvSpPr>
          <p:spPr>
            <a:xfrm>
              <a:off x="5588280" y="3450960"/>
              <a:ext cx="1352520" cy="43488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Planen u.Bau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_s91157"/>
            <p:cNvSpPr/>
            <p:nvPr/>
          </p:nvSpPr>
          <p:spPr>
            <a:xfrm>
              <a:off x="5515920" y="4104720"/>
              <a:ext cx="14958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_s91158"/>
            <p:cNvSpPr/>
            <p:nvPr/>
          </p:nvSpPr>
          <p:spPr>
            <a:xfrm>
              <a:off x="5515920" y="4759560"/>
              <a:ext cx="14958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Liegenschafte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_s91159"/>
            <p:cNvSpPr/>
            <p:nvPr/>
          </p:nvSpPr>
          <p:spPr>
            <a:xfrm>
              <a:off x="5515920" y="5415120"/>
              <a:ext cx="149580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Ver- u. Entsorgung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Ingenieurtechnik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468360" y="2119680"/>
            <a:ext cx="8208720" cy="3719160"/>
            <a:chOff x="468360" y="2119680"/>
            <a:chExt cx="8208720" cy="3719160"/>
          </a:xfrm>
        </p:grpSpPr>
        <p:cxnSp>
          <p:nvCxnSpPr>
            <p:cNvPr id="612" name="_s92165"/>
            <p:cNvCxnSpPr>
              <a:stCxn id="613" idx="0"/>
              <a:endCxn id="614" idx="2"/>
            </p:cNvCxnSpPr>
            <p:nvPr/>
          </p:nvCxnSpPr>
          <p:spPr>
            <a:xfrm flipV="1">
              <a:off x="7931160" y="51850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5" name="_s92166"/>
            <p:cNvCxnSpPr>
              <a:stCxn id="614" idx="0"/>
              <a:endCxn id="616" idx="2"/>
            </p:cNvCxnSpPr>
            <p:nvPr/>
          </p:nvCxnSpPr>
          <p:spPr>
            <a:xfrm flipV="1">
              <a:off x="7931160" y="4529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7" name="_s92167"/>
            <p:cNvCxnSpPr>
              <a:stCxn id="616" idx="0"/>
              <a:endCxn id="618" idx="2"/>
            </p:cNvCxnSpPr>
            <p:nvPr/>
          </p:nvCxnSpPr>
          <p:spPr>
            <a:xfrm flipH="1" flipV="1" rot="5400000">
              <a:off x="7822080" y="3984840"/>
              <a:ext cx="219600" cy="216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9" name="_s92168"/>
            <p:cNvCxnSpPr>
              <a:stCxn id="618" idx="0"/>
              <a:endCxn id="620" idx="2"/>
            </p:cNvCxnSpPr>
            <p:nvPr/>
          </p:nvCxnSpPr>
          <p:spPr>
            <a:xfrm flipV="1">
              <a:off x="7932240" y="3222720"/>
              <a:ext cx="180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1" name="_s92169"/>
            <p:cNvCxnSpPr>
              <a:stCxn id="620" idx="0"/>
              <a:endCxn id="622" idx="2"/>
            </p:cNvCxnSpPr>
            <p:nvPr/>
          </p:nvCxnSpPr>
          <p:spPr>
            <a:xfrm flipV="1" rot="16200000">
              <a:off x="6143400" y="98532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3" name="_s92170"/>
            <p:cNvCxnSpPr>
              <a:stCxn id="624" idx="0"/>
              <a:endCxn id="622" idx="2"/>
            </p:cNvCxnSpPr>
            <p:nvPr/>
          </p:nvCxnSpPr>
          <p:spPr>
            <a:xfrm flipV="1" rot="16200000">
              <a:off x="5299560" y="1829160"/>
              <a:ext cx="219600" cy="167112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5" name="_s92171"/>
            <p:cNvCxnSpPr>
              <a:stCxn id="626" idx="0"/>
              <a:endCxn id="622" idx="2"/>
            </p:cNvCxnSpPr>
            <p:nvPr/>
          </p:nvCxnSpPr>
          <p:spPr>
            <a:xfrm flipH="1" flipV="1" rot="5400000">
              <a:off x="4456800" y="2657160"/>
              <a:ext cx="219600" cy="158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7" name="_s92172"/>
            <p:cNvCxnSpPr>
              <a:stCxn id="628" idx="0"/>
              <a:endCxn id="622" idx="2"/>
            </p:cNvCxnSpPr>
            <p:nvPr/>
          </p:nvCxnSpPr>
          <p:spPr>
            <a:xfrm flipH="1" flipV="1" rot="5400000">
              <a:off x="3613680" y="1814040"/>
              <a:ext cx="219600" cy="17020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9" name="_s92173"/>
            <p:cNvCxnSpPr>
              <a:stCxn id="630" idx="0"/>
              <a:endCxn id="622" idx="2"/>
            </p:cNvCxnSpPr>
            <p:nvPr/>
          </p:nvCxnSpPr>
          <p:spPr>
            <a:xfrm flipH="1" flipV="1" rot="5400000">
              <a:off x="2771280" y="97164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2" name="_s92174"/>
            <p:cNvSpPr/>
            <p:nvPr/>
          </p:nvSpPr>
          <p:spPr>
            <a:xfrm>
              <a:off x="3845880" y="2119680"/>
              <a:ext cx="1454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0" rIns="288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_s92175"/>
            <p:cNvSpPr/>
            <p:nvPr/>
          </p:nvSpPr>
          <p:spPr>
            <a:xfrm>
              <a:off x="4683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_s92176"/>
            <p:cNvSpPr/>
            <p:nvPr/>
          </p:nvSpPr>
          <p:spPr>
            <a:xfrm>
              <a:off x="2154600" y="2774520"/>
              <a:ext cx="143748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_s92177"/>
            <p:cNvSpPr/>
            <p:nvPr/>
          </p:nvSpPr>
          <p:spPr>
            <a:xfrm>
              <a:off x="384084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_s92178"/>
            <p:cNvSpPr/>
            <p:nvPr/>
          </p:nvSpPr>
          <p:spPr>
            <a:xfrm>
              <a:off x="552672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_s92179"/>
            <p:cNvSpPr/>
            <p:nvPr/>
          </p:nvSpPr>
          <p:spPr>
            <a:xfrm>
              <a:off x="7212960" y="2774520"/>
              <a:ext cx="1437840" cy="448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600" rIns="306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_s92180"/>
            <p:cNvSpPr/>
            <p:nvPr/>
          </p:nvSpPr>
          <p:spPr>
            <a:xfrm>
              <a:off x="7257240" y="3441960"/>
              <a:ext cx="134928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Verkehrsplanu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_s92181"/>
            <p:cNvSpPr/>
            <p:nvPr/>
          </p:nvSpPr>
          <p:spPr>
            <a:xfrm>
              <a:off x="7185240" y="409536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Hoch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_s92182"/>
            <p:cNvSpPr/>
            <p:nvPr/>
          </p:nvSpPr>
          <p:spPr>
            <a:xfrm>
              <a:off x="7185240" y="4749120"/>
              <a:ext cx="14918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ffff"/>
                  </a:solidFill>
                  <a:latin typeface="Arial Narrow"/>
                </a:rPr>
                <a:t>Tief- u. Ing.bau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_s92183"/>
            <p:cNvSpPr/>
            <p:nvPr/>
          </p:nvSpPr>
          <p:spPr>
            <a:xfrm>
              <a:off x="7185240" y="5404320"/>
              <a:ext cx="1491840" cy="4345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Themen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68360" y="2119680"/>
            <a:ext cx="8209080" cy="3711600"/>
            <a:chOff x="468360" y="2119680"/>
            <a:chExt cx="8209080" cy="3711600"/>
          </a:xfrm>
        </p:grpSpPr>
        <p:cxnSp>
          <p:nvCxnSpPr>
            <p:cNvPr id="633" name="_s68613"/>
            <p:cNvCxnSpPr>
              <a:stCxn id="634" idx="0"/>
              <a:endCxn id="635" idx="2"/>
            </p:cNvCxnSpPr>
            <p:nvPr/>
          </p:nvCxnSpPr>
          <p:spPr>
            <a:xfrm flipV="1">
              <a:off x="1215000" y="51757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6" name="_s68614"/>
            <p:cNvCxnSpPr>
              <a:stCxn id="635" idx="0"/>
              <a:endCxn id="637" idx="2"/>
            </p:cNvCxnSpPr>
            <p:nvPr/>
          </p:nvCxnSpPr>
          <p:spPr>
            <a:xfrm flipV="1">
              <a:off x="1215000" y="45208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8" name="_s68615"/>
            <p:cNvCxnSpPr>
              <a:stCxn id="637" idx="0"/>
              <a:endCxn id="639" idx="2"/>
            </p:cNvCxnSpPr>
            <p:nvPr/>
          </p:nvCxnSpPr>
          <p:spPr>
            <a:xfrm flipV="1">
              <a:off x="1215000" y="386532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0" name="_s68616"/>
            <p:cNvCxnSpPr>
              <a:stCxn id="639" idx="0"/>
              <a:endCxn id="641" idx="2"/>
            </p:cNvCxnSpPr>
            <p:nvPr/>
          </p:nvCxnSpPr>
          <p:spPr>
            <a:xfrm flipV="1">
              <a:off x="1215000" y="3210480"/>
              <a:ext cx="2160" cy="21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2" name="_s68617"/>
            <p:cNvCxnSpPr>
              <a:stCxn id="643" idx="0"/>
              <a:endCxn id="644" idx="2"/>
            </p:cNvCxnSpPr>
            <p:nvPr/>
          </p:nvCxnSpPr>
          <p:spPr>
            <a:xfrm flipV="1" rot="16200000">
              <a:off x="6156720" y="971280"/>
              <a:ext cx="219600" cy="3386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5" name="_s68618"/>
            <p:cNvCxnSpPr>
              <a:stCxn id="646" idx="0"/>
              <a:endCxn id="644" idx="2"/>
            </p:cNvCxnSpPr>
            <p:nvPr/>
          </p:nvCxnSpPr>
          <p:spPr>
            <a:xfrm flipV="1" rot="16200000">
              <a:off x="5313600" y="1814400"/>
              <a:ext cx="219600" cy="170064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7" name="_s68619"/>
            <p:cNvCxnSpPr>
              <a:stCxn id="648" idx="0"/>
              <a:endCxn id="644" idx="2"/>
            </p:cNvCxnSpPr>
            <p:nvPr/>
          </p:nvCxnSpPr>
          <p:spPr>
            <a:xfrm flipV="1" rot="16200000">
              <a:off x="4470480" y="2657520"/>
              <a:ext cx="219600" cy="144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9" name="_s68620"/>
            <p:cNvCxnSpPr>
              <a:stCxn id="650" idx="0"/>
              <a:endCxn id="644" idx="2"/>
            </p:cNvCxnSpPr>
            <p:nvPr/>
          </p:nvCxnSpPr>
          <p:spPr>
            <a:xfrm flipH="1" flipV="1" rot="5400000">
              <a:off x="3628080" y="1829160"/>
              <a:ext cx="219600" cy="16714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1" name="_s68621"/>
            <p:cNvCxnSpPr>
              <a:stCxn id="641" idx="0"/>
              <a:endCxn id="644" idx="2"/>
            </p:cNvCxnSpPr>
            <p:nvPr/>
          </p:nvCxnSpPr>
          <p:spPr>
            <a:xfrm flipH="1" flipV="1" rot="5400000">
              <a:off x="2784240" y="985680"/>
              <a:ext cx="219600" cy="3358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44" name="_s68622"/>
            <p:cNvSpPr/>
            <p:nvPr/>
          </p:nvSpPr>
          <p:spPr>
            <a:xfrm>
              <a:off x="3845880" y="2119680"/>
              <a:ext cx="145332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zenari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_s68623"/>
            <p:cNvSpPr/>
            <p:nvPr/>
          </p:nvSpPr>
          <p:spPr>
            <a:xfrm>
              <a:off x="496080" y="2774520"/>
              <a:ext cx="143640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Orientier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_s68624"/>
            <p:cNvSpPr/>
            <p:nvPr/>
          </p:nvSpPr>
          <p:spPr>
            <a:xfrm>
              <a:off x="218196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arkt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Möglichkeit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_s68625"/>
            <p:cNvSpPr/>
            <p:nvPr/>
          </p:nvSpPr>
          <p:spPr>
            <a:xfrm>
              <a:off x="386820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Immobili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_s68626"/>
            <p:cNvSpPr/>
            <p:nvPr/>
          </p:nvSpPr>
          <p:spPr>
            <a:xfrm>
              <a:off x="555444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Bauen  u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Narrow"/>
                </a:rPr>
                <a:t>Umwel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_s68627"/>
            <p:cNvSpPr/>
            <p:nvPr/>
          </p:nvSpPr>
          <p:spPr>
            <a:xfrm>
              <a:off x="7240680" y="2774520"/>
              <a:ext cx="1436760" cy="43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Ingenieur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ffffff"/>
                  </a:solidFill>
                  <a:latin typeface="Arial Narrow"/>
                </a:rPr>
                <a:t>technik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_s68628"/>
            <p:cNvSpPr/>
            <p:nvPr/>
          </p:nvSpPr>
          <p:spPr>
            <a:xfrm>
              <a:off x="540360" y="3429720"/>
              <a:ext cx="13464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ourismu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_s68629"/>
            <p:cNvSpPr/>
            <p:nvPr/>
          </p:nvSpPr>
          <p:spPr>
            <a:xfrm>
              <a:off x="468360" y="408492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eizei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_s68630"/>
            <p:cNvSpPr/>
            <p:nvPr/>
          </p:nvSpPr>
          <p:spPr>
            <a:xfrm>
              <a:off x="468360" y="4740120"/>
              <a:ext cx="149076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320" rIns="6732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Kultu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_s68631"/>
            <p:cNvSpPr/>
            <p:nvPr/>
          </p:nvSpPr>
          <p:spPr>
            <a:xfrm>
              <a:off x="468360" y="5394960"/>
              <a:ext cx="149076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Nutz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362400" y="2119680"/>
            <a:ext cx="2420280" cy="3506400"/>
            <a:chOff x="3362400" y="2119680"/>
            <a:chExt cx="2420280" cy="3506400"/>
          </a:xfrm>
        </p:grpSpPr>
        <p:cxnSp>
          <p:nvCxnSpPr>
            <p:cNvPr id="654" name="_s58397"/>
            <p:cNvCxnSpPr>
              <a:stCxn id="655" idx="1"/>
              <a:endCxn id="656" idx="2"/>
            </p:cNvCxnSpPr>
            <p:nvPr/>
          </p:nvCxnSpPr>
          <p:spPr>
            <a:xfrm rot="10800000">
              <a:off x="4091760" y="2554920"/>
              <a:ext cx="249480" cy="2817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7" name="_s58395"/>
            <p:cNvCxnSpPr>
              <a:stCxn id="658" idx="1"/>
              <a:endCxn id="656" idx="2"/>
            </p:cNvCxnSpPr>
            <p:nvPr/>
          </p:nvCxnSpPr>
          <p:spPr>
            <a:xfrm rot="10800000">
              <a:off x="4091760" y="2554920"/>
              <a:ext cx="249480" cy="203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9" name="_s58393"/>
            <p:cNvCxnSpPr>
              <a:stCxn id="660" idx="1"/>
              <a:endCxn id="656" idx="2"/>
            </p:cNvCxnSpPr>
            <p:nvPr/>
          </p:nvCxnSpPr>
          <p:spPr>
            <a:xfrm rot="10800000">
              <a:off x="4091760" y="2554920"/>
              <a:ext cx="249480" cy="125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1" name="_s58377"/>
            <p:cNvCxnSpPr>
              <a:stCxn id="662" idx="1"/>
              <a:endCxn id="656" idx="2"/>
            </p:cNvCxnSpPr>
            <p:nvPr/>
          </p:nvCxnSpPr>
          <p:spPr>
            <a:xfrm rot="10800000">
              <a:off x="4091760" y="2554920"/>
              <a:ext cx="249480" cy="47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56" name="_s58382"/>
            <p:cNvSpPr/>
            <p:nvPr/>
          </p:nvSpPr>
          <p:spPr>
            <a:xfrm>
              <a:off x="336240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_s58387"/>
            <p:cNvSpPr/>
            <p:nvPr/>
          </p:nvSpPr>
          <p:spPr>
            <a:xfrm>
              <a:off x="4341240" y="27745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ourist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_s58392"/>
            <p:cNvSpPr/>
            <p:nvPr/>
          </p:nvSpPr>
          <p:spPr>
            <a:xfrm>
              <a:off x="4341240" y="35560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eizeitbürg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_s58394"/>
            <p:cNvSpPr/>
            <p:nvPr/>
          </p:nvSpPr>
          <p:spPr>
            <a:xfrm>
              <a:off x="4341240" y="433692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avig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_s58396"/>
            <p:cNvSpPr/>
            <p:nvPr/>
          </p:nvSpPr>
          <p:spPr>
            <a:xfrm>
              <a:off x="4341240" y="5118480"/>
              <a:ext cx="1441440" cy="5076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rwalt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u. Wirtschaf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IG-GDI: Kommunale Daten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Orientierung &gt;&gt; Datenerzeuger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361320" y="2119680"/>
            <a:ext cx="2421360" cy="3220920"/>
            <a:chOff x="3361320" y="2119680"/>
            <a:chExt cx="2421360" cy="3220920"/>
          </a:xfrm>
        </p:grpSpPr>
        <p:cxnSp>
          <p:nvCxnSpPr>
            <p:cNvPr id="665" name="_s61445"/>
            <p:cNvCxnSpPr>
              <a:stCxn id="666" idx="1"/>
              <a:endCxn id="667" idx="2"/>
            </p:cNvCxnSpPr>
            <p:nvPr/>
          </p:nvCxnSpPr>
          <p:spPr>
            <a:xfrm rot="10800000">
              <a:off x="4090320" y="2554920"/>
              <a:ext cx="249120" cy="2567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8" name="_s61446"/>
            <p:cNvCxnSpPr>
              <a:stCxn id="669" idx="1"/>
              <a:endCxn id="667" idx="2"/>
            </p:cNvCxnSpPr>
            <p:nvPr/>
          </p:nvCxnSpPr>
          <p:spPr>
            <a:xfrm rot="10800000">
              <a:off x="4090320" y="2554920"/>
              <a:ext cx="249120" cy="1858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0" name="_s61447"/>
            <p:cNvCxnSpPr>
              <a:stCxn id="671" idx="1"/>
              <a:endCxn id="667" idx="2"/>
            </p:cNvCxnSpPr>
            <p:nvPr/>
          </p:nvCxnSpPr>
          <p:spPr>
            <a:xfrm rot="10800000">
              <a:off x="4090320" y="2554920"/>
              <a:ext cx="249120" cy="114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2" name="_s61448"/>
            <p:cNvCxnSpPr>
              <a:stCxn id="673" idx="1"/>
              <a:endCxn id="667" idx="2"/>
            </p:cNvCxnSpPr>
            <p:nvPr/>
          </p:nvCxnSpPr>
          <p:spPr>
            <a:xfrm rot="10800000">
              <a:off x="4090320" y="2554920"/>
              <a:ext cx="24912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67" name="_s61449"/>
            <p:cNvSpPr/>
            <p:nvPr/>
          </p:nvSpPr>
          <p:spPr>
            <a:xfrm>
              <a:off x="3361320" y="2119680"/>
              <a:ext cx="145800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0680" rIns="4068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ientieru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_s61450"/>
            <p:cNvSpPr/>
            <p:nvPr/>
          </p:nvSpPr>
          <p:spPr>
            <a:xfrm>
              <a:off x="4339800" y="277452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Kommune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_s61451"/>
            <p:cNvSpPr/>
            <p:nvPr/>
          </p:nvSpPr>
          <p:spPr>
            <a:xfrm>
              <a:off x="4339800" y="3484080"/>
              <a:ext cx="144288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tatisti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_s61452"/>
            <p:cNvSpPr/>
            <p:nvPr/>
          </p:nvSpPr>
          <p:spPr>
            <a:xfrm>
              <a:off x="4339800" y="4194360"/>
              <a:ext cx="1441440" cy="43596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HK / Verbän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_s61453"/>
            <p:cNvSpPr/>
            <p:nvPr/>
          </p:nvSpPr>
          <p:spPr>
            <a:xfrm>
              <a:off x="4339800" y="4904280"/>
              <a:ext cx="1441440" cy="43632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eodäs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0:37:25Z</dcterms:created>
  <dc:creator>r.lach</dc:creator>
  <dc:description/>
  <dc:language>en-US</dc:language>
  <cp:lastModifiedBy>r.lach</cp:lastModifiedBy>
  <dcterms:modified xsi:type="dcterms:W3CDTF">2002-12-19T15:53:15Z</dcterms:modified>
  <cp:revision>6</cp:revision>
  <dc:subject/>
  <dc:title>RSIG-GDI: Kommunale Daten  Szenarien</dc:title>
</cp:coreProperties>
</file>